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0.pct" ContentType="image/x-pict"/>
  <Override PartName="/ppt/media/image9.pct" ContentType="image/x-pict"/>
  <Override PartName="/ppt/media/image13.pct" ContentType="image/x-pict"/>
  <Override PartName="/ppt/media/image8.pct" ContentType="image/x-pict"/>
  <Override PartName="/ppt/media/image19.png" ContentType="image/png"/>
  <Override PartName="/ppt/media/image12.pct" ContentType="image/x-pict"/>
  <Override PartName="/ppt/media/image1.png" ContentType="image/png"/>
  <Override PartName="/ppt/media/image18.jpeg" ContentType="image/jpeg"/>
  <Override PartName="/ppt/media/image4.pct" ContentType="image/x-pict"/>
  <Override PartName="/ppt/media/image16.png" ContentType="image/png"/>
  <Override PartName="/ppt/media/image15.png" ContentType="image/png"/>
  <Override PartName="/ppt/media/image7.pct" ContentType="image/x-pict"/>
  <Override PartName="/ppt/media/image2.pct" ContentType="image/x-pict"/>
  <Override PartName="/ppt/media/image5.png" ContentType="image/png"/>
  <Override PartName="/ppt/media/image17.jpeg" ContentType="image/jpeg"/>
  <Override PartName="/ppt/media/image14.pct" ContentType="image/x-pict"/>
  <Override PartName="/ppt/media/image3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FE6B-6234-4E66-9443-CB4314743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BB6A-7BEC-4328-99DA-CF88E9BD5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89A2-9737-44F4-B52F-086DEF0E2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1737-D293-4EBC-B9C0-66AC8C421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2DA6-4778-429E-B37C-4C3F086D05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6C94-3869-4270-B2CE-2BCDF42A5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D096-4735-41F2-A45F-C3206C794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31B4-63A7-4658-A7DC-53389EBB4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2FB2-911B-4E15-8ED4-22BE96018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67A3-980C-4045-BA1C-C0732093D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82CA-9469-475D-B071-3AEEB6966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296C-79E4-4DAA-A147-1B00FFE14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46F5-EA5A-4732-861B-B91B04AB82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2.pct"/><Relationship Id="rId3" Type="http://schemas.openxmlformats.org/officeDocument/2006/relationships/image" Target="../media/image12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pct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968840" y="741240"/>
            <a:ext cx="53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Wissens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ler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332440" y="4648320"/>
            <a:ext cx="469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rof. Dr. Heinz Man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hrstuhl für Empirische Pädagog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Pädagogische Psyc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E02486_(p)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129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1800" y="0"/>
            <a:ext cx="640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schiedene Ebenen des Wissensman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2680" y="762120"/>
            <a:ext cx="8532720" cy="60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Ebene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          Perspektive       Wissensmanagement 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5120" y="457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2680" y="1682640"/>
            <a:ext cx="2206440" cy="606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Times New Roman"/>
              </a:rPr>
              <a:t>Individu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2680" y="2673360"/>
            <a:ext cx="2206440" cy="98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Times New Roman"/>
              </a:rPr>
              <a:t>Grup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80" y="4044960"/>
            <a:ext cx="2206440" cy="682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Times New Roman"/>
              </a:rPr>
              <a:t>Gesellschaf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6640" y="4057560"/>
            <a:ext cx="5572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soziokulturell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gesellschaftliche 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Aufgab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17080" y="1681200"/>
            <a:ext cx="538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psychologisch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indiv. Kompeten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3680" y="2595600"/>
            <a:ext cx="502704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organisations-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organisationa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theoretisch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Meth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4798440"/>
            <a:ext cx="8383320" cy="992880"/>
            <a:chOff x="533520" y="4798440"/>
            <a:chExt cx="8383320" cy="992880"/>
          </a:xfrm>
        </p:grpSpPr>
        <p:sp>
          <p:nvSpPr>
            <p:cNvPr id="148" name=""/>
            <p:cNvSpPr/>
            <p:nvPr/>
          </p:nvSpPr>
          <p:spPr>
            <a:xfrm>
              <a:off x="990720" y="5261040"/>
              <a:ext cx="7467480" cy="530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Times New Roman"/>
                </a:rPr>
                <a:t>Neue Informations- &amp; Kommunikationstechnologi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788600">
              <a:off x="8534520" y="4798800"/>
              <a:ext cx="380880" cy="83808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46520 h 838080"/>
                <a:gd name="textAreaBottom" fmla="*/ 6076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33520" y="4880880"/>
              <a:ext cx="380880" cy="75708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32480 h 757080"/>
                <a:gd name="textAreaBottom" fmla="*/ 549000 h 7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257160" y="62164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97520" y="0"/>
            <a:ext cx="65440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Die Wissensmanagement - Prozesskategori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5120" y="457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35880" y="5253120"/>
            <a:ext cx="1974600" cy="614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181480"/>
            <a:ext cx="1974960" cy="614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ielse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9640" y="690480"/>
            <a:ext cx="8064720" cy="3576600"/>
            <a:chOff x="539640" y="690480"/>
            <a:chExt cx="8064720" cy="3576600"/>
          </a:xfrm>
        </p:grpSpPr>
        <p:sp>
          <p:nvSpPr>
            <p:cNvPr id="157" name=""/>
            <p:cNvSpPr/>
            <p:nvPr/>
          </p:nvSpPr>
          <p:spPr>
            <a:xfrm>
              <a:off x="2901960" y="766800"/>
              <a:ext cx="3498840" cy="749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kommun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1909800"/>
              <a:ext cx="2743200" cy="8334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reprä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30560" y="3281400"/>
              <a:ext cx="3117960" cy="749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gener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690480"/>
              <a:ext cx="8064720" cy="357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1828800"/>
              <a:ext cx="2819520" cy="762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nutz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248520" y="2590920"/>
              <a:ext cx="7617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114300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904760" y="1143000"/>
              <a:ext cx="990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05120" y="274320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15238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22860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934320" y="3809880"/>
            <a:ext cx="1295280" cy="1219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5029200"/>
            <a:ext cx="2666880" cy="914400"/>
          </a:xfrm>
          <a:prstGeom prst="leftArrow">
            <a:avLst>
              <a:gd name="adj1" fmla="val 50000"/>
              <a:gd name="adj2" fmla="val 729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3733920"/>
            <a:ext cx="1295280" cy="12189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28560" y="61405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53920" y="0"/>
            <a:ext cx="5628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rozesse der Wissensreprä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295280"/>
            <a:ext cx="28195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bew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219320"/>
            <a:ext cx="28195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identifiz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2971800"/>
            <a:ext cx="1752480" cy="82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difiz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743200"/>
            <a:ext cx="2133720" cy="11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explizit und zugänglich m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5324400"/>
            <a:ext cx="312408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dokument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5324400"/>
            <a:ext cx="289548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aufber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095560" y="1685880"/>
            <a:ext cx="5219640" cy="3638880"/>
            <a:chOff x="2095560" y="1685880"/>
            <a:chExt cx="5219640" cy="3638880"/>
          </a:xfrm>
        </p:grpSpPr>
        <p:sp>
          <p:nvSpPr>
            <p:cNvPr id="181" name=""/>
            <p:cNvSpPr/>
            <p:nvPr/>
          </p:nvSpPr>
          <p:spPr>
            <a:xfrm>
              <a:off x="2895480" y="2514600"/>
              <a:ext cx="3810240" cy="1676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repräsent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81" idx="7"/>
              <a:endCxn id="174" idx="2"/>
            </p:cNvCxnSpPr>
            <p:nvPr/>
          </p:nvCxnSpPr>
          <p:spPr>
            <a:xfrm flipV="1">
              <a:off x="6148080" y="1762200"/>
              <a:ext cx="1129320" cy="99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81" idx="6"/>
              <a:endCxn id="176" idx="1"/>
            </p:cNvCxnSpPr>
            <p:nvPr/>
          </p:nvCxnSpPr>
          <p:spPr>
            <a:xfrm>
              <a:off x="6705360" y="3352320"/>
              <a:ext cx="610200" cy="35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81" idx="5"/>
              <a:endCxn id="179" idx="0"/>
            </p:cNvCxnSpPr>
            <p:nvPr/>
          </p:nvCxnSpPr>
          <p:spPr>
            <a:xfrm>
              <a:off x="6148440" y="3944880"/>
              <a:ext cx="1015200" cy="138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81" idx="3"/>
              <a:endCxn id="178" idx="0"/>
            </p:cNvCxnSpPr>
            <p:nvPr/>
          </p:nvCxnSpPr>
          <p:spPr>
            <a:xfrm flipH="1">
              <a:off x="2476080" y="3944880"/>
              <a:ext cx="977040" cy="138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81" idx="2"/>
              <a:endCxn id="177" idx="3"/>
            </p:cNvCxnSpPr>
            <p:nvPr/>
          </p:nvCxnSpPr>
          <p:spPr>
            <a:xfrm flipH="1" flipV="1">
              <a:off x="2361600" y="3340800"/>
              <a:ext cx="53388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5" idx="2"/>
              <a:endCxn id="181" idx="1"/>
            </p:cNvCxnSpPr>
            <p:nvPr/>
          </p:nvCxnSpPr>
          <p:spPr>
            <a:xfrm>
              <a:off x="2095560" y="1685880"/>
              <a:ext cx="1357920" cy="1075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88" name=""/>
          <p:cNvSpPr/>
          <p:nvPr/>
        </p:nvSpPr>
        <p:spPr>
          <a:xfrm>
            <a:off x="6028560" y="61405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31920" y="0"/>
            <a:ext cx="6752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repräsentation: Wissenslandk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33520" y="838080"/>
            <a:ext cx="5790960" cy="2895840"/>
            <a:chOff x="533520" y="838080"/>
            <a:chExt cx="5790960" cy="2895840"/>
          </a:xfrm>
        </p:grpSpPr>
        <p:sp>
          <p:nvSpPr>
            <p:cNvPr id="192" name=""/>
            <p:cNvSpPr/>
            <p:nvPr/>
          </p:nvSpPr>
          <p:spPr>
            <a:xfrm>
              <a:off x="1011600" y="838080"/>
              <a:ext cx="111204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Nutz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520" y="990720"/>
              <a:ext cx="533160" cy="11430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1523880"/>
              <a:ext cx="5257800" cy="2210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ehr Wissenstransparen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Bessere wissenssu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Leichterer Wissenszugri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erbindung von „Wissensinseln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utzungserhöhung durch Visualis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124080" y="4038480"/>
            <a:ext cx="4267440" cy="2210040"/>
            <a:chOff x="3124080" y="4038480"/>
            <a:chExt cx="4267440" cy="2210040"/>
          </a:xfrm>
        </p:grpSpPr>
        <p:sp>
          <p:nvSpPr>
            <p:cNvPr id="196" name=""/>
            <p:cNvSpPr/>
            <p:nvPr/>
          </p:nvSpPr>
          <p:spPr>
            <a:xfrm>
              <a:off x="4516920" y="4038480"/>
              <a:ext cx="24163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oraussetz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34320" y="4157640"/>
              <a:ext cx="457200" cy="836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46160 h 836640"/>
                <a:gd name="textAreaBottom" fmla="*/ 606600 h 8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4080" y="4695840"/>
              <a:ext cx="3733920" cy="1552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flege und Aktualis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Offenlegung von Wiss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utzungsbereitscha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59120" y="0"/>
            <a:ext cx="5230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rozesse der Wissensgener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1295280"/>
            <a:ext cx="28195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rnproz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335268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„importier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15200" y="2971800"/>
            <a:ext cx="1752480" cy="82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tz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2743200"/>
            <a:ext cx="2133720" cy="11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ex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r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.B. Fusi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952880"/>
            <a:ext cx="2361960" cy="82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schung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5324400"/>
            <a:ext cx="2895480" cy="82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s Wissen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sexpliz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61600" y="1685880"/>
            <a:ext cx="4953600" cy="3638880"/>
            <a:chOff x="2361600" y="1685880"/>
            <a:chExt cx="4953600" cy="3638880"/>
          </a:xfrm>
        </p:grpSpPr>
        <p:sp>
          <p:nvSpPr>
            <p:cNvPr id="208" name=""/>
            <p:cNvSpPr/>
            <p:nvPr/>
          </p:nvSpPr>
          <p:spPr>
            <a:xfrm>
              <a:off x="2895480" y="2514600"/>
              <a:ext cx="3810240" cy="1676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generier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8" idx="7"/>
              <a:endCxn id="201" idx="2"/>
            </p:cNvCxnSpPr>
            <p:nvPr/>
          </p:nvCxnSpPr>
          <p:spPr>
            <a:xfrm flipV="1">
              <a:off x="6148080" y="1762200"/>
              <a:ext cx="1129320" cy="99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208" idx="6"/>
              <a:endCxn id="203" idx="1"/>
            </p:cNvCxnSpPr>
            <p:nvPr/>
          </p:nvCxnSpPr>
          <p:spPr>
            <a:xfrm>
              <a:off x="6705360" y="3352320"/>
              <a:ext cx="610200" cy="35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>
              <a:stCxn id="208" idx="5"/>
              <a:endCxn id="206" idx="0"/>
            </p:cNvCxnSpPr>
            <p:nvPr/>
          </p:nvCxnSpPr>
          <p:spPr>
            <a:xfrm>
              <a:off x="6148440" y="3944880"/>
              <a:ext cx="1015200" cy="138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208" idx="3"/>
              <a:endCxn id="205" idx="0"/>
            </p:cNvCxnSpPr>
            <p:nvPr/>
          </p:nvCxnSpPr>
          <p:spPr>
            <a:xfrm flipH="1">
              <a:off x="2399760" y="3944880"/>
              <a:ext cx="1053000" cy="1008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"/>
            <p:cNvCxnSpPr>
              <a:stCxn id="208" idx="2"/>
              <a:endCxn id="204" idx="3"/>
            </p:cNvCxnSpPr>
            <p:nvPr/>
          </p:nvCxnSpPr>
          <p:spPr>
            <a:xfrm flipH="1" flipV="1">
              <a:off x="2361600" y="3340800"/>
              <a:ext cx="53388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"/>
            <p:cNvCxnSpPr>
              <a:stCxn id="202" idx="2"/>
              <a:endCxn id="208" idx="1"/>
            </p:cNvCxnSpPr>
            <p:nvPr/>
          </p:nvCxnSpPr>
          <p:spPr>
            <a:xfrm>
              <a:off x="2361960" y="1685880"/>
              <a:ext cx="1091160" cy="1075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15" name=""/>
          <p:cNvSpPr/>
          <p:nvPr/>
        </p:nvSpPr>
        <p:spPr>
          <a:xfrm>
            <a:off x="6028560" y="652140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65360" y="0"/>
            <a:ext cx="5897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generierung: Szenariotech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3520" y="914400"/>
            <a:ext cx="7315200" cy="2666520"/>
            <a:chOff x="533520" y="914400"/>
            <a:chExt cx="7315200" cy="2666520"/>
          </a:xfrm>
        </p:grpSpPr>
        <p:sp>
          <p:nvSpPr>
            <p:cNvPr id="219" name=""/>
            <p:cNvSpPr/>
            <p:nvPr/>
          </p:nvSpPr>
          <p:spPr>
            <a:xfrm>
              <a:off x="1090800" y="914400"/>
              <a:ext cx="111204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Nutz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520" y="1066680"/>
              <a:ext cx="533160" cy="11426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99800 h 1142640"/>
                <a:gd name="textAreaBottom" fmla="*/ 82836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1676160"/>
              <a:ext cx="6782040" cy="190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ehr Kreativität und vernetztes Den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novationsförd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Berücksichtigung multipler Perspekt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ntwicklung mehrdimensionaler Lösungsansä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057400" y="3962520"/>
            <a:ext cx="6629400" cy="2295000"/>
            <a:chOff x="2057400" y="3962520"/>
            <a:chExt cx="6629400" cy="2295000"/>
          </a:xfrm>
        </p:grpSpPr>
        <p:sp>
          <p:nvSpPr>
            <p:cNvPr id="223" name=""/>
            <p:cNvSpPr/>
            <p:nvPr/>
          </p:nvSpPr>
          <p:spPr>
            <a:xfrm>
              <a:off x="5798160" y="3962520"/>
              <a:ext cx="24163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oraussetz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29600" y="4201920"/>
              <a:ext cx="457200" cy="83628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46160 h 836280"/>
                <a:gd name="textAreaBottom" fmla="*/ 606240 h 83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57400" y="4705200"/>
              <a:ext cx="6172200" cy="15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Komplexe Frage-/Problemstell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Offenheit für Unplanba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Bereitschaft für kritische Auseinandersetz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50000" y="0"/>
            <a:ext cx="464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rozesse der Wissensnutz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990720"/>
            <a:ext cx="46483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in Produkte transform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2743200"/>
            <a:ext cx="1752480" cy="11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in Hand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743200"/>
            <a:ext cx="2209680" cy="11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cheid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486400"/>
            <a:ext cx="60199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in Dienstleistungen transform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208960" y="1456920"/>
            <a:ext cx="5106240" cy="4029840"/>
            <a:chOff x="2208960" y="1456920"/>
            <a:chExt cx="5106240" cy="4029840"/>
          </a:xfrm>
        </p:grpSpPr>
        <p:sp>
          <p:nvSpPr>
            <p:cNvPr id="233" name=""/>
            <p:cNvSpPr/>
            <p:nvPr/>
          </p:nvSpPr>
          <p:spPr>
            <a:xfrm>
              <a:off x="2895480" y="2514600"/>
              <a:ext cx="3810240" cy="1676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nutz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" name=""/>
            <p:cNvCxnSpPr>
              <a:stCxn id="233" idx="6"/>
              <a:endCxn id="229" idx="1"/>
            </p:cNvCxnSpPr>
            <p:nvPr/>
          </p:nvCxnSpPr>
          <p:spPr>
            <a:xfrm flipV="1">
              <a:off x="6705360" y="3340800"/>
              <a:ext cx="61020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33" idx="4"/>
              <a:endCxn id="231" idx="0"/>
            </p:cNvCxnSpPr>
            <p:nvPr/>
          </p:nvCxnSpPr>
          <p:spPr>
            <a:xfrm>
              <a:off x="4800600" y="4191120"/>
              <a:ext cx="38880" cy="1296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3" idx="2"/>
              <a:endCxn id="230" idx="3"/>
            </p:cNvCxnSpPr>
            <p:nvPr/>
          </p:nvCxnSpPr>
          <p:spPr>
            <a:xfrm flipH="1" flipV="1">
              <a:off x="2208960" y="3340800"/>
              <a:ext cx="68652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28" idx="2"/>
              <a:endCxn id="233" idx="0"/>
            </p:cNvCxnSpPr>
            <p:nvPr/>
          </p:nvCxnSpPr>
          <p:spPr>
            <a:xfrm>
              <a:off x="4762440" y="1456920"/>
              <a:ext cx="38880" cy="105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38" name=""/>
          <p:cNvSpPr/>
          <p:nvPr/>
        </p:nvSpPr>
        <p:spPr>
          <a:xfrm>
            <a:off x="6180840" y="63691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87480" y="0"/>
            <a:ext cx="541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nutzung: 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6320" y="609480"/>
            <a:ext cx="5790960" cy="2895840"/>
            <a:chOff x="76320" y="609480"/>
            <a:chExt cx="5790960" cy="2895840"/>
          </a:xfrm>
        </p:grpSpPr>
        <p:sp>
          <p:nvSpPr>
            <p:cNvPr id="242" name=""/>
            <p:cNvSpPr/>
            <p:nvPr/>
          </p:nvSpPr>
          <p:spPr>
            <a:xfrm>
              <a:off x="605880" y="609480"/>
              <a:ext cx="106164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utz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320" y="762120"/>
              <a:ext cx="533160" cy="11430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9480" y="1295280"/>
              <a:ext cx="5257800" cy="2210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Lerneffekt durch Lernen aus Fehl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ensibilisierung für mögliche Probl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utzung gemachter Erfahr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erstärkung der Fehlerkul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600200" y="3505320"/>
            <a:ext cx="7467120" cy="2819160"/>
            <a:chOff x="1600200" y="3505320"/>
            <a:chExt cx="7467120" cy="2819160"/>
          </a:xfrm>
        </p:grpSpPr>
        <p:sp>
          <p:nvSpPr>
            <p:cNvPr id="246" name=""/>
            <p:cNvSpPr/>
            <p:nvPr/>
          </p:nvSpPr>
          <p:spPr>
            <a:xfrm>
              <a:off x="6329160" y="3505320"/>
              <a:ext cx="228240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oraussetz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10480" y="3657600"/>
              <a:ext cx="456840" cy="1066680"/>
            </a:xfrm>
            <a:custGeom>
              <a:avLst/>
              <a:gdLst>
                <a:gd name="textAreaLeft" fmla="*/ 61200 w 456840"/>
                <a:gd name="textAreaRight" fmla="*/ 395640 w 456840"/>
                <a:gd name="textAreaTop" fmla="*/ 186480 h 1066680"/>
                <a:gd name="textAreaBottom" fmla="*/ 7732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00200" y="4343400"/>
              <a:ext cx="6933960" cy="1981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Bereitschaft Fehler zuzugeben und zu kommunizier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indestmaß an Fehlerkul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orbilder und Anreize zum konstruktiv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mgang mit Fehl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64280" y="0"/>
            <a:ext cx="582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rozesse der Wissenskommunik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80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295280"/>
            <a:ext cx="281952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austau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219320"/>
            <a:ext cx="335268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weiter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114720"/>
            <a:ext cx="175248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ope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2743200"/>
            <a:ext cx="2133720" cy="11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unt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324400"/>
            <a:ext cx="472464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gemeinsam konstru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361600" y="1685880"/>
            <a:ext cx="4953600" cy="3638880"/>
            <a:chOff x="2361600" y="1685880"/>
            <a:chExt cx="4953600" cy="3638880"/>
          </a:xfrm>
        </p:grpSpPr>
        <p:sp>
          <p:nvSpPr>
            <p:cNvPr id="257" name=""/>
            <p:cNvSpPr/>
            <p:nvPr/>
          </p:nvSpPr>
          <p:spPr>
            <a:xfrm>
              <a:off x="2895480" y="2514600"/>
              <a:ext cx="3810240" cy="1676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kommunik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" name=""/>
            <p:cNvCxnSpPr>
              <a:stCxn id="257" idx="7"/>
              <a:endCxn id="251" idx="2"/>
            </p:cNvCxnSpPr>
            <p:nvPr/>
          </p:nvCxnSpPr>
          <p:spPr>
            <a:xfrm flipV="1">
              <a:off x="6148080" y="1762200"/>
              <a:ext cx="1129320" cy="99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"/>
            <p:cNvCxnSpPr>
              <a:stCxn id="257" idx="6"/>
              <a:endCxn id="253" idx="1"/>
            </p:cNvCxnSpPr>
            <p:nvPr/>
          </p:nvCxnSpPr>
          <p:spPr>
            <a:xfrm flipV="1">
              <a:off x="6705360" y="3347280"/>
              <a:ext cx="610200" cy="5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"/>
            <p:cNvCxnSpPr>
              <a:stCxn id="257" idx="4"/>
              <a:endCxn id="255" idx="0"/>
            </p:cNvCxnSpPr>
            <p:nvPr/>
          </p:nvCxnSpPr>
          <p:spPr>
            <a:xfrm>
              <a:off x="4800240" y="4191120"/>
              <a:ext cx="1080" cy="1134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1" name=""/>
            <p:cNvCxnSpPr>
              <a:stCxn id="257" idx="2"/>
              <a:endCxn id="254" idx="3"/>
            </p:cNvCxnSpPr>
            <p:nvPr/>
          </p:nvCxnSpPr>
          <p:spPr>
            <a:xfrm flipH="1" flipV="1">
              <a:off x="2361600" y="3340800"/>
              <a:ext cx="53388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52" idx="2"/>
              <a:endCxn id="257" idx="1"/>
            </p:cNvCxnSpPr>
            <p:nvPr/>
          </p:nvCxnSpPr>
          <p:spPr>
            <a:xfrm>
              <a:off x="2361960" y="1685880"/>
              <a:ext cx="1091160" cy="1075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63" name=""/>
          <p:cNvSpPr/>
          <p:nvPr/>
        </p:nvSpPr>
        <p:spPr>
          <a:xfrm>
            <a:off x="6180840" y="62164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9840" y="441360"/>
            <a:ext cx="78922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Warum ist Wissens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so bedeuts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er Umgang mit Wissen i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eigentlich nichts Ne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E01616_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34290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96240" y="1440"/>
            <a:ext cx="602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ymptome schlechter Kommunik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680" y="533520"/>
            <a:ext cx="80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54080" y="841320"/>
            <a:ext cx="4111560" cy="1978200"/>
            <a:chOff x="154080" y="841320"/>
            <a:chExt cx="4111560" cy="1978200"/>
          </a:xfrm>
        </p:grpSpPr>
        <p:sp>
          <p:nvSpPr>
            <p:cNvPr id="267" name=""/>
            <p:cNvSpPr/>
            <p:nvPr/>
          </p:nvSpPr>
          <p:spPr>
            <a:xfrm>
              <a:off x="458640" y="1603440"/>
              <a:ext cx="3807000" cy="121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eine konstruktive Strei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d Konfliktkul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4080" y="841320"/>
              <a:ext cx="3231000" cy="45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think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1473120" y="1017720"/>
              <a:ext cx="139716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grpSp>
        <p:nvGrpSpPr>
          <p:cNvPr id="270" name=""/>
          <p:cNvGrpSpPr/>
          <p:nvPr/>
        </p:nvGrpSpPr>
        <p:grpSpPr>
          <a:xfrm>
            <a:off x="4343400" y="1603440"/>
            <a:ext cx="4646520" cy="1977480"/>
            <a:chOff x="4343400" y="1603440"/>
            <a:chExt cx="4646520" cy="1977480"/>
          </a:xfrm>
        </p:grpSpPr>
        <p:sp>
          <p:nvSpPr>
            <p:cNvPr id="271" name=""/>
            <p:cNvSpPr/>
            <p:nvPr/>
          </p:nvSpPr>
          <p:spPr>
            <a:xfrm>
              <a:off x="5183280" y="2365200"/>
              <a:ext cx="3806640" cy="1215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ein ausgewoge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nformationsaustaus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43400" y="1603440"/>
              <a:ext cx="4620960" cy="45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Vermeidung kognitiver Dissonan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5664240" y="1779480"/>
              <a:ext cx="1396800" cy="1091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grpSp>
        <p:nvGrpSpPr>
          <p:cNvPr id="274" name=""/>
          <p:cNvGrpSpPr/>
          <p:nvPr/>
        </p:nvGrpSpPr>
        <p:grpSpPr>
          <a:xfrm>
            <a:off x="151200" y="3583080"/>
            <a:ext cx="4114440" cy="1977840"/>
            <a:chOff x="151200" y="3583080"/>
            <a:chExt cx="4114440" cy="1977840"/>
          </a:xfrm>
        </p:grpSpPr>
        <p:sp>
          <p:nvSpPr>
            <p:cNvPr id="275" name=""/>
            <p:cNvSpPr/>
            <p:nvPr/>
          </p:nvSpPr>
          <p:spPr>
            <a:xfrm>
              <a:off x="458640" y="4344840"/>
              <a:ext cx="3807000" cy="121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eine Informationsvorte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d Synergieeffek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1200" y="3583080"/>
              <a:ext cx="3596760" cy="45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Hidden Profile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1473120" y="3759120"/>
              <a:ext cx="139716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grpSp>
        <p:nvGrpSpPr>
          <p:cNvPr id="278" name=""/>
          <p:cNvGrpSpPr/>
          <p:nvPr/>
        </p:nvGrpSpPr>
        <p:grpSpPr>
          <a:xfrm>
            <a:off x="4287600" y="4343400"/>
            <a:ext cx="4780800" cy="2055600"/>
            <a:chOff x="4287600" y="4343400"/>
            <a:chExt cx="4780800" cy="2055600"/>
          </a:xfrm>
        </p:grpSpPr>
        <p:sp>
          <p:nvSpPr>
            <p:cNvPr id="279" name=""/>
            <p:cNvSpPr/>
            <p:nvPr/>
          </p:nvSpPr>
          <p:spPr>
            <a:xfrm>
              <a:off x="5106960" y="5182920"/>
              <a:ext cx="3807000" cy="121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ein ungehindert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nformationsflu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87600" y="4343400"/>
              <a:ext cx="4780800" cy="45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olares Ingroup-Outgroup-Den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4"/>
            <a:stretch/>
          </p:blipFill>
          <p:spPr>
            <a:xfrm>
              <a:off x="5664240" y="4597200"/>
              <a:ext cx="139680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93560" y="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Kooperations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533520"/>
            <a:ext cx="8746920" cy="6248160"/>
            <a:chOff x="0" y="533520"/>
            <a:chExt cx="8746920" cy="6248160"/>
          </a:xfrm>
        </p:grpSpPr>
        <p:sp>
          <p:nvSpPr>
            <p:cNvPr id="284" name=""/>
            <p:cNvSpPr/>
            <p:nvPr/>
          </p:nvSpPr>
          <p:spPr>
            <a:xfrm>
              <a:off x="349200" y="533520"/>
              <a:ext cx="80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04360" y="693720"/>
              <a:ext cx="566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Hans-der-macht`s-dann-eh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68200" y="1608120"/>
              <a:ext cx="556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Ja-bin-ich-denn-der-Depp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98960" y="2751120"/>
              <a:ext cx="73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Da-mach-ich`s-doch-gleich-lieber-selbst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360" y="259092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00200" y="152388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60948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02320" y="3894120"/>
              <a:ext cx="54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Kann-ich-nicht-mach-du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35040" y="380988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00040" y="5113440"/>
              <a:ext cx="595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Ich-hab-meinen-Teil-erledigt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360" y="502920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27880" y="6180120"/>
              <a:ext cx="561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as „Gruppenarbeit-nein-danke“-Phän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60600" y="6095880"/>
              <a:ext cx="1332000" cy="685800"/>
            </a:xfrm>
            <a:custGeom>
              <a:avLst/>
              <a:gdLst>
                <a:gd name="textAreaLeft" fmla="*/ 208080 w 1332000"/>
                <a:gd name="textAreaRight" fmla="*/ 1165680 w 13320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259640" y="1440"/>
            <a:ext cx="6746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sachen für eine defizitä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Kommunikations- und Kooperationskul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6360" y="1066680"/>
            <a:ext cx="80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7920" y="1373040"/>
            <a:ext cx="3910680" cy="880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Probleme des Macht- 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Autoritätsverlus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59280" y="2895480"/>
            <a:ext cx="4038840" cy="48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Ressort- und Revierden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1920" y="5518080"/>
            <a:ext cx="3682080" cy="88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Falsche Führungskräfte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auswah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0880" y="4876920"/>
            <a:ext cx="3095280" cy="880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Falsche Belohnungs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mechanis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80040" y="4191120"/>
            <a:ext cx="3090600" cy="48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Geheime Spielregel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09480" y="1447920"/>
          <a:ext cx="289584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28958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13360" y="1440"/>
            <a:ext cx="6425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raussetzung für gute Kommunik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&amp; K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680" y="990720"/>
            <a:ext cx="80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54800" y="1274760"/>
            <a:ext cx="4339440" cy="2230200"/>
            <a:chOff x="154800" y="1274760"/>
            <a:chExt cx="4339440" cy="2230200"/>
          </a:xfrm>
        </p:grpSpPr>
        <p:sp>
          <p:nvSpPr>
            <p:cNvPr id="309" name=""/>
            <p:cNvSpPr/>
            <p:nvPr/>
          </p:nvSpPr>
          <p:spPr>
            <a:xfrm>
              <a:off x="382680" y="2060280"/>
              <a:ext cx="4111560" cy="1444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ufgabe von Führungskräft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orbildfunk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4800" y="1274760"/>
              <a:ext cx="2866680" cy="515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Vertrauenskult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1473120" y="1474560"/>
              <a:ext cx="139716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grpSp>
        <p:nvGrpSpPr>
          <p:cNvPr id="312" name=""/>
          <p:cNvGrpSpPr/>
          <p:nvPr/>
        </p:nvGrpSpPr>
        <p:grpSpPr>
          <a:xfrm>
            <a:off x="1906200" y="4726080"/>
            <a:ext cx="4340520" cy="2055600"/>
            <a:chOff x="1906200" y="4726080"/>
            <a:chExt cx="4340520" cy="2055600"/>
          </a:xfrm>
        </p:grpSpPr>
        <p:sp>
          <p:nvSpPr>
            <p:cNvPr id="313" name=""/>
            <p:cNvSpPr/>
            <p:nvPr/>
          </p:nvSpPr>
          <p:spPr>
            <a:xfrm>
              <a:off x="2440080" y="5565600"/>
              <a:ext cx="3806640" cy="12160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flege von Disk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d Dialo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06200" y="4726080"/>
              <a:ext cx="4176000" cy="515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Streit- und Konfliktkult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3454560" y="4979880"/>
              <a:ext cx="139680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grpSp>
        <p:nvGrpSpPr>
          <p:cNvPr id="316" name=""/>
          <p:cNvGrpSpPr/>
          <p:nvPr/>
        </p:nvGrpSpPr>
        <p:grpSpPr>
          <a:xfrm>
            <a:off x="4876920" y="1752480"/>
            <a:ext cx="4189320" cy="2743200"/>
            <a:chOff x="4876920" y="1752480"/>
            <a:chExt cx="4189320" cy="2743200"/>
          </a:xfrm>
        </p:grpSpPr>
        <p:sp>
          <p:nvSpPr>
            <p:cNvPr id="317" name=""/>
            <p:cNvSpPr/>
            <p:nvPr/>
          </p:nvSpPr>
          <p:spPr>
            <a:xfrm>
              <a:off x="4876920" y="2692440"/>
              <a:ext cx="4189320" cy="18032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uche nach Stärken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chwächen &amp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erbesserungsmaßnah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1752480"/>
              <a:ext cx="2391120" cy="515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Teamreflex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3"/>
            <a:stretch/>
          </p:blipFill>
          <p:spPr>
            <a:xfrm>
              <a:off x="5586480" y="2031840"/>
              <a:ext cx="1396800" cy="1092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sp>
        <p:nvSpPr>
          <p:cNvPr id="320" name=""/>
          <p:cNvSpPr/>
          <p:nvPr/>
        </p:nvSpPr>
        <p:spPr>
          <a:xfrm>
            <a:off x="6409440" y="64450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30492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52680" y="9036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reit- und Konfliktkul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928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Diskursethik und Dialogkul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120" y="1955880"/>
            <a:ext cx="76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schiedene Sichtweisen austau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Ursachen von Meinungsunterschieden analys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schiedene Konfliktlösungen unter Berücksichtigung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essen beider Konfliktpartner heraus 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ielregeln der zukünftigen Zusammenarbeit er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30492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96840" y="9036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eamreflexion und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9320" y="1422360"/>
            <a:ext cx="785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s- und Funktionsweisen starker und schwacher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ach- und Beziehungseb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s läuft g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s soll bewahr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s soll verbesser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Maßnahmen sollen ergriffen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Spielregeln will sich die Gruppe ge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individuellen Commitments ergeben si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30492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7280" y="-76320"/>
            <a:ext cx="30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aterielle Anre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5335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8600" y="685800"/>
            <a:ext cx="8610480" cy="2014200"/>
            <a:chOff x="228600" y="685800"/>
            <a:chExt cx="8610480" cy="2014200"/>
          </a:xfrm>
        </p:grpSpPr>
        <p:sp>
          <p:nvSpPr>
            <p:cNvPr id="334" name=""/>
            <p:cNvSpPr/>
            <p:nvPr/>
          </p:nvSpPr>
          <p:spPr>
            <a:xfrm>
              <a:off x="228600" y="685800"/>
              <a:ext cx="861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800" spc="-1" strike="noStrike">
                  <a:solidFill>
                    <a:srgbClr val="cc0000"/>
                  </a:solidFill>
                  <a:latin typeface="Times New Roman"/>
                </a:rPr>
                <a:t>Kurzfristige materielle Anreiz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76800" y="1143000"/>
              <a:ext cx="234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räm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rei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achgeschen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utsch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150280" y="2909880"/>
            <a:ext cx="48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cc0000"/>
                </a:solidFill>
                <a:latin typeface="Times New Roman"/>
              </a:rPr>
              <a:t>Langfristige materielle Anre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76200" y="3556080"/>
            <a:ext cx="620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raditionelle Entlohnungsf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förderung nach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tielle Gehaltserhö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istungsbezogene Prämien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en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Qualifikationsorientierte Entlohnungsf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bauende Qual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38088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89640" y="0"/>
            <a:ext cx="34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materielle Anre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0880" y="1085760"/>
            <a:ext cx="547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b, Anerke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putationsgewi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stattung mit Mitsprache-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tizipationsre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cheidungs- und Kontrollbefug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sammenarbeit in sozialen Netz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65480" y="4191120"/>
            <a:ext cx="685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mpowerment der Organisationsmitglie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tragung ganzheitlicher Aufgabenbewältigung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ndlungsauto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38088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2120" y="-76320"/>
            <a:ext cx="552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otivierung und Anreizgestaltu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zum 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8380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6320" y="1143000"/>
            <a:ext cx="8991360" cy="3962520"/>
            <a:chOff x="76320" y="1143000"/>
            <a:chExt cx="8991360" cy="3962520"/>
          </a:xfrm>
        </p:grpSpPr>
        <p:sp>
          <p:nvSpPr>
            <p:cNvPr id="347" name=""/>
            <p:cNvSpPr/>
            <p:nvPr/>
          </p:nvSpPr>
          <p:spPr>
            <a:xfrm>
              <a:off x="304920" y="1600200"/>
              <a:ext cx="8534160" cy="3505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320" y="1143000"/>
              <a:ext cx="2743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aterielle Anre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72200" y="1143000"/>
              <a:ext cx="289548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mmaterielle Anre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90720" y="1676520"/>
              <a:ext cx="68580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676520"/>
              <a:ext cx="68580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120" y="259092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Kompetenz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örd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29000" y="1752480"/>
              <a:ext cx="22860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ermeidung 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efizitmo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29000" y="2743200"/>
              <a:ext cx="22860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Zielsetzungen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Zielvereinba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29000" y="3733920"/>
              <a:ext cx="2286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Rückmeld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48400" y="449568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KUL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00800" y="251460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elbs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bestimm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0" y="5181480"/>
            <a:ext cx="8991720" cy="1676520"/>
            <a:chOff x="0" y="5181480"/>
            <a:chExt cx="8991720" cy="1676520"/>
          </a:xfrm>
        </p:grpSpPr>
        <p:sp>
          <p:nvSpPr>
            <p:cNvPr id="359" name=""/>
            <p:cNvSpPr/>
            <p:nvPr/>
          </p:nvSpPr>
          <p:spPr>
            <a:xfrm>
              <a:off x="3200400" y="5181480"/>
              <a:ext cx="68580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0720" y="5181480"/>
              <a:ext cx="68580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791320"/>
              <a:ext cx="220968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920" y="594360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reprä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5943600"/>
              <a:ext cx="2057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kommun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594360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ener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2920" y="5943600"/>
              <a:ext cx="1828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utz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86400" y="5181480"/>
              <a:ext cx="68580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72400" y="5181480"/>
              <a:ext cx="68580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362320" y="1295280"/>
            <a:ext cx="4419360" cy="4191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r Men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ls Ort 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an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67080" y="1066680"/>
            <a:ext cx="533520" cy="457200"/>
          </a:xfrm>
          <a:prstGeom prst="lef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9088400">
            <a:off x="2666520" y="1752480"/>
            <a:ext cx="533520" cy="457200"/>
          </a:xfrm>
          <a:prstGeom prst="lef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3380600">
            <a:off x="2743200" y="4648320"/>
            <a:ext cx="533520" cy="457200"/>
          </a:xfrm>
          <a:prstGeom prst="lef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743200"/>
            <a:ext cx="19810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ltungen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zeu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4876920"/>
            <a:ext cx="213336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rtigkeiten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äh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7924200">
            <a:off x="5943240" y="4495680"/>
            <a:ext cx="533160" cy="457200"/>
          </a:xfrm>
          <a:prstGeom prst="leftArrow">
            <a:avLst>
              <a:gd name="adj1" fmla="val 50000"/>
              <a:gd name="adj2" fmla="val 291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2743200"/>
            <a:ext cx="22096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usstsein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nsi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3059400">
            <a:off x="5905800" y="1714320"/>
            <a:ext cx="533160" cy="457200"/>
          </a:xfrm>
          <a:prstGeom prst="leftArrow">
            <a:avLst>
              <a:gd name="adj1" fmla="val 50000"/>
              <a:gd name="adj2" fmla="val 291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4572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13360" y="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r individuelle Lernzyk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85280" y="633888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uelle: Senge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61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65720" y="0"/>
            <a:ext cx="3994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ttraktivität des T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91908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5105520"/>
            <a:ext cx="5806800" cy="1981080"/>
            <a:chOff x="2819520" y="5105520"/>
            <a:chExt cx="5806800" cy="1981080"/>
          </a:xfrm>
        </p:grpSpPr>
        <p:sp>
          <p:nvSpPr>
            <p:cNvPr id="48" name=""/>
            <p:cNvSpPr/>
            <p:nvPr/>
          </p:nvSpPr>
          <p:spPr>
            <a:xfrm>
              <a:off x="3200400" y="66294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5529240"/>
              <a:ext cx="441324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</a:t>
              </a:r>
              <a:r>
                <a:rPr b="1" lang="de-DE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Wissen als Produktionsfakt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j0292014(p)" descr=""/>
            <p:cNvPicPr/>
            <p:nvPr/>
          </p:nvPicPr>
          <p:blipFill>
            <a:blip r:embed="rId1"/>
            <a:stretch/>
          </p:blipFill>
          <p:spPr>
            <a:xfrm>
              <a:off x="7162920" y="5105520"/>
              <a:ext cx="1463400" cy="146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1290240" y="2971800"/>
            <a:ext cx="6940800" cy="1413000"/>
            <a:chOff x="1290240" y="2971800"/>
            <a:chExt cx="6940800" cy="1413000"/>
          </a:xfrm>
        </p:grpSpPr>
        <p:sp>
          <p:nvSpPr>
            <p:cNvPr id="52" name=""/>
            <p:cNvSpPr/>
            <p:nvPr/>
          </p:nvSpPr>
          <p:spPr>
            <a:xfrm>
              <a:off x="1290240" y="3097080"/>
              <a:ext cx="5260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Neue Informations- und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Kommunikationstechnologi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BS00580_" descr=""/>
            <p:cNvPicPr/>
            <p:nvPr/>
          </p:nvPicPr>
          <p:blipFill>
            <a:blip r:embed="rId2"/>
            <a:stretch/>
          </p:blipFill>
          <p:spPr>
            <a:xfrm>
              <a:off x="6553080" y="2971800"/>
              <a:ext cx="1677960" cy="14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68040" y="1066680"/>
            <a:ext cx="6424920" cy="1463760"/>
            <a:chOff x="68040" y="1066680"/>
            <a:chExt cx="6424920" cy="1463760"/>
          </a:xfrm>
        </p:grpSpPr>
        <p:sp>
          <p:nvSpPr>
            <p:cNvPr id="55" name=""/>
            <p:cNvSpPr/>
            <p:nvPr/>
          </p:nvSpPr>
          <p:spPr>
            <a:xfrm>
              <a:off x="68040" y="1371600"/>
              <a:ext cx="50648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Große Zunahme an Informations-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und Wissensbeständ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PE03499_(p)" descr=""/>
            <p:cNvPicPr/>
            <p:nvPr/>
          </p:nvPicPr>
          <p:blipFill>
            <a:blip r:embed="rId3"/>
            <a:stretch/>
          </p:blipFill>
          <p:spPr>
            <a:xfrm>
              <a:off x="5029200" y="1066680"/>
              <a:ext cx="1463760" cy="146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4572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40840" y="0"/>
            <a:ext cx="49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r organisationale Lernzyk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85280" y="633888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uelle: Senge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1371600"/>
            <a:ext cx="5333760" cy="3733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e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ls 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s Handel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1295280"/>
            <a:ext cx="259056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itgeda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4495680"/>
            <a:ext cx="281916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novatio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ganisations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4120" y="4495680"/>
            <a:ext cx="281916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zepte, 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Werk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4572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74120" y="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Übersichtsgraf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57200" y="762120"/>
            <a:ext cx="8229600" cy="5410080"/>
            <a:chOff x="457200" y="762120"/>
            <a:chExt cx="8229600" cy="5410080"/>
          </a:xfrm>
        </p:grpSpPr>
        <p:sp>
          <p:nvSpPr>
            <p:cNvPr id="393" name=""/>
            <p:cNvSpPr/>
            <p:nvPr/>
          </p:nvSpPr>
          <p:spPr>
            <a:xfrm>
              <a:off x="457200" y="1143000"/>
              <a:ext cx="5791320" cy="685800"/>
            </a:xfrm>
            <a:custGeom>
              <a:avLst/>
              <a:gdLst>
                <a:gd name="textAreaLeft" fmla="*/ 0 w 5791320"/>
                <a:gd name="textAreaRight" fmla="*/ 5791680 w 57913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Organisationskultur - Leitb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7200" y="4876920"/>
              <a:ext cx="5867280" cy="685800"/>
            </a:xfrm>
            <a:custGeom>
              <a:avLst/>
              <a:gdLst>
                <a:gd name="textAreaLeft" fmla="*/ 0 w 5867280"/>
                <a:gd name="textAreaRight" fmla="*/ 5867640 w 58672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otivation - Anreizgestalt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200" y="2971800"/>
              <a:ext cx="1905120" cy="762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90920" y="2362320"/>
              <a:ext cx="3124080" cy="1981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reprä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kommun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gener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nutz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15000" y="2362320"/>
              <a:ext cx="609480" cy="1981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383800">
              <a:off x="5384520" y="314568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rateg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5400000">
              <a:off x="5524200" y="2705040"/>
              <a:ext cx="3124440" cy="121896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Lernen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Organis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77120" y="762120"/>
              <a:ext cx="2209680" cy="914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Individuell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Lernzykl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77120" y="5257800"/>
              <a:ext cx="2209680" cy="914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Organisational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Lernzykl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104520" y="652140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61400" y="838080"/>
            <a:ext cx="7718400" cy="82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iel von Wissensmanagem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affung einer lernenden und wissensbasierten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5400" y="2666880"/>
            <a:ext cx="2861280" cy="825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smanagemen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örderliches Leitb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3920" y="1828800"/>
            <a:ext cx="13716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4038480"/>
            <a:ext cx="2514600" cy="12193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issens-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ernkul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4038480"/>
            <a:ext cx="3581640" cy="12193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mmunikations-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operationskul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286000" y="3504960"/>
            <a:ext cx="4724280" cy="533520"/>
            <a:chOff x="2286000" y="3504960"/>
            <a:chExt cx="4724280" cy="533520"/>
          </a:xfrm>
        </p:grpSpPr>
        <p:sp>
          <p:nvSpPr>
            <p:cNvPr id="409" name=""/>
            <p:cNvSpPr/>
            <p:nvPr/>
          </p:nvSpPr>
          <p:spPr>
            <a:xfrm flipV="1">
              <a:off x="2286000" y="3504960"/>
              <a:ext cx="167652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81480" y="3505320"/>
              <a:ext cx="1828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817560" y="0"/>
            <a:ext cx="733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management und Unternehmenskul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800" y="53352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942920" y="5257800"/>
            <a:ext cx="5029200" cy="1130400"/>
            <a:chOff x="1942920" y="5257800"/>
            <a:chExt cx="5029200" cy="1130400"/>
          </a:xfrm>
        </p:grpSpPr>
        <p:sp>
          <p:nvSpPr>
            <p:cNvPr id="414" name=""/>
            <p:cNvSpPr/>
            <p:nvPr/>
          </p:nvSpPr>
          <p:spPr>
            <a:xfrm>
              <a:off x="2897640" y="5562720"/>
              <a:ext cx="3132720" cy="825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etzbasier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issenskommun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5" name=""/>
            <p:cNvCxnSpPr>
              <a:stCxn id="406" idx="4"/>
              <a:endCxn id="414" idx="1"/>
            </p:cNvCxnSpPr>
            <p:nvPr/>
          </p:nvCxnSpPr>
          <p:spPr>
            <a:xfrm>
              <a:off x="1942920" y="5257800"/>
              <a:ext cx="95292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16" name=""/>
            <p:cNvCxnSpPr>
              <a:stCxn id="407" idx="4"/>
              <a:endCxn id="414" idx="3"/>
            </p:cNvCxnSpPr>
            <p:nvPr/>
          </p:nvCxnSpPr>
          <p:spPr>
            <a:xfrm flipH="1">
              <a:off x="6031800" y="5257800"/>
              <a:ext cx="94068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sp>
        <p:nvSpPr>
          <p:cNvPr id="417" name=""/>
          <p:cNvSpPr/>
          <p:nvPr/>
        </p:nvSpPr>
        <p:spPr>
          <a:xfrm>
            <a:off x="6257160" y="63691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90480" y="6261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9120" y="6253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90680" y="2671920"/>
            <a:ext cx="4419720" cy="160020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irmenübergreife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ilotgruppe (V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365200" y="1468440"/>
            <a:ext cx="4340520" cy="1049400"/>
            <a:chOff x="2365200" y="1468440"/>
            <a:chExt cx="4340520" cy="1049400"/>
          </a:xfrm>
        </p:grpSpPr>
        <p:sp>
          <p:nvSpPr>
            <p:cNvPr id="422" name=""/>
            <p:cNvSpPr/>
            <p:nvPr/>
          </p:nvSpPr>
          <p:spPr>
            <a:xfrm>
              <a:off x="2365200" y="1468440"/>
              <a:ext cx="4340520" cy="424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Projektbegleitende Qualifizieru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rot="16200000">
              <a:off x="2786400" y="2101680"/>
              <a:ext cx="378000" cy="453960"/>
            </a:xfrm>
            <a:prstGeom prst="rightArrow">
              <a:avLst>
                <a:gd name="adj1" fmla="val 50000"/>
                <a:gd name="adj2" fmla="val 25014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16200000">
              <a:off x="5758200" y="2101680"/>
              <a:ext cx="378000" cy="453960"/>
            </a:xfrm>
            <a:prstGeom prst="rightArrow">
              <a:avLst>
                <a:gd name="adj1" fmla="val 50000"/>
                <a:gd name="adj2" fmla="val 25014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52280" y="838080"/>
            <a:ext cx="2252880" cy="2030400"/>
            <a:chOff x="152280" y="838080"/>
            <a:chExt cx="2252880" cy="2030400"/>
          </a:xfrm>
        </p:grpSpPr>
        <p:sp>
          <p:nvSpPr>
            <p:cNvPr id="426" name=""/>
            <p:cNvSpPr/>
            <p:nvPr/>
          </p:nvSpPr>
          <p:spPr>
            <a:xfrm>
              <a:off x="1425600" y="2046240"/>
              <a:ext cx="979560" cy="822240"/>
            </a:xfrm>
            <a:custGeom>
              <a:avLst/>
              <a:gdLst/>
              <a:ahLst/>
              <a:rect l="l" t="t" r="r" b="b"/>
              <a:pathLst>
                <a:path w="617" h="518">
                  <a:moveTo>
                    <a:pt x="0" y="437"/>
                  </a:moveTo>
                  <a:lnTo>
                    <a:pt x="127" y="383"/>
                  </a:lnTo>
                  <a:lnTo>
                    <a:pt x="30" y="154"/>
                  </a:lnTo>
                  <a:lnTo>
                    <a:pt x="391" y="0"/>
                  </a:lnTo>
                  <a:lnTo>
                    <a:pt x="489" y="230"/>
                  </a:lnTo>
                  <a:lnTo>
                    <a:pt x="616" y="176"/>
                  </a:lnTo>
                  <a:lnTo>
                    <a:pt x="397" y="517"/>
                  </a:lnTo>
                  <a:lnTo>
                    <a:pt x="0" y="43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2280" y="838080"/>
              <a:ext cx="2133720" cy="12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ff0000"/>
                  </a:solidFill>
                  <a:latin typeface="Times New Roman"/>
                </a:rPr>
                <a:t>Betriebe lernen v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ff0000"/>
                  </a:solidFill>
                  <a:latin typeface="Times New Roman"/>
                </a:rPr>
                <a:t>Betrieb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481800" y="1162080"/>
            <a:ext cx="2665080" cy="1751040"/>
            <a:chOff x="6481800" y="1162080"/>
            <a:chExt cx="2665080" cy="1751040"/>
          </a:xfrm>
        </p:grpSpPr>
        <p:sp>
          <p:nvSpPr>
            <p:cNvPr id="429" name=""/>
            <p:cNvSpPr/>
            <p:nvPr/>
          </p:nvSpPr>
          <p:spPr>
            <a:xfrm>
              <a:off x="6481800" y="2106720"/>
              <a:ext cx="925560" cy="806400"/>
            </a:xfrm>
            <a:custGeom>
              <a:avLst/>
              <a:gdLst/>
              <a:ahLst/>
              <a:rect l="l" t="t" r="r" b="b"/>
              <a:pathLst>
                <a:path w="583" h="508">
                  <a:moveTo>
                    <a:pt x="0" y="133"/>
                  </a:moveTo>
                  <a:lnTo>
                    <a:pt x="117" y="209"/>
                  </a:lnTo>
                  <a:lnTo>
                    <a:pt x="253" y="0"/>
                  </a:lnTo>
                  <a:lnTo>
                    <a:pt x="582" y="214"/>
                  </a:lnTo>
                  <a:lnTo>
                    <a:pt x="446" y="423"/>
                  </a:lnTo>
                  <a:lnTo>
                    <a:pt x="562" y="498"/>
                  </a:lnTo>
                  <a:lnTo>
                    <a:pt x="157" y="507"/>
                  </a:lnTo>
                  <a:lnTo>
                    <a:pt x="0" y="13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79240" y="1162080"/>
              <a:ext cx="2267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Times New Roman"/>
                </a:rPr>
                <a:t>Lernen dur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Times New Roman"/>
                </a:rPr>
                <a:t>Implementier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04920" y="2971800"/>
            <a:ext cx="19904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Professione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Mod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(MA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7280" y="3048120"/>
            <a:ext cx="22114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Wissenschaftl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Beglei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(LM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320" y="4044960"/>
            <a:ext cx="8960760" cy="1743120"/>
            <a:chOff x="4320" y="4044960"/>
            <a:chExt cx="8960760" cy="1743120"/>
          </a:xfrm>
        </p:grpSpPr>
        <p:sp>
          <p:nvSpPr>
            <p:cNvPr id="434" name=""/>
            <p:cNvSpPr/>
            <p:nvPr/>
          </p:nvSpPr>
          <p:spPr>
            <a:xfrm flipV="1">
              <a:off x="1841400" y="4273200"/>
              <a:ext cx="1204920" cy="9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060720" y="4425840"/>
              <a:ext cx="595440" cy="83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6025680" y="4273200"/>
              <a:ext cx="1065240" cy="9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5492880" y="4425480"/>
              <a:ext cx="226800" cy="7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00720" y="4501800"/>
              <a:ext cx="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6483240" y="4044960"/>
              <a:ext cx="1751040" cy="12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46120" y="4044960"/>
              <a:ext cx="1967040" cy="12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520" y="4881600"/>
              <a:ext cx="200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2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2328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1892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9052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8580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5740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43320" y="5394240"/>
              <a:ext cx="112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etrieb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517760" y="0"/>
            <a:ext cx="60274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ilotprojekt zum 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(VBM, MAM &amp; LM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3840" y="91908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4960" y="4495680"/>
            <a:ext cx="58521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irmeneigne Wissensmanagement-Proj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5800" y="30492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26680" y="90360"/>
            <a:ext cx="44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irmeneigene Kleinpro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609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4200" y="984240"/>
            <a:ext cx="826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bau und Verbesserung der Wartungspla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ptimieren des Arbeitsablaufs Rü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now-how-Entwicklung und –Sicherung im 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nsfer von Erlerntem nach Qualifizierungsmaßnahmen 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bau eines After-Sales-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und Erfahrungen nutzen, um Fehler in der Konstr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 verm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pazitäts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529280" y="-76320"/>
            <a:ext cx="6086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nternehmensrelevanter Nutzen ei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Learning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800" y="9144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5630760"/>
            <a:ext cx="2057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80880" y="1219320"/>
            <a:ext cx="8305920" cy="4952880"/>
            <a:chOff x="380880" y="1219320"/>
            <a:chExt cx="8305920" cy="4952880"/>
          </a:xfrm>
        </p:grpSpPr>
        <p:sp>
          <p:nvSpPr>
            <p:cNvPr id="460" name=""/>
            <p:cNvSpPr/>
            <p:nvPr/>
          </p:nvSpPr>
          <p:spPr>
            <a:xfrm>
              <a:off x="380880" y="1219320"/>
              <a:ext cx="24386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1219320"/>
              <a:ext cx="24386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1219320"/>
              <a:ext cx="24382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0880" y="5639040"/>
              <a:ext cx="24386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52680" y="5639040"/>
              <a:ext cx="24386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48520" y="5639040"/>
              <a:ext cx="24382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ternehmen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0880" y="2133720"/>
              <a:ext cx="8305920" cy="2895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00400" y="2210040"/>
              <a:ext cx="2819520" cy="1371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Commun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7200" y="3886200"/>
              <a:ext cx="2286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ha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24480" y="3886200"/>
              <a:ext cx="2286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0400" y="4114800"/>
              <a:ext cx="2743200" cy="609840"/>
            </a:xfrm>
            <a:prstGeom prst="leftArrow">
              <a:avLst>
                <a:gd name="adj1" fmla="val 50000"/>
                <a:gd name="adj2" fmla="val 11245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issensaustaus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9736400">
              <a:off x="1600200" y="312444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2920400">
              <a:off x="6019560" y="312408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3" name=""/>
            <p:cNvCxnSpPr>
              <a:stCxn id="460" idx="2"/>
              <a:endCxn id="467" idx="0"/>
            </p:cNvCxnSpPr>
            <p:nvPr/>
          </p:nvCxnSpPr>
          <p:spPr>
            <a:xfrm>
              <a:off x="1599840" y="1752840"/>
              <a:ext cx="3010680" cy="457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4" name=""/>
            <p:cNvCxnSpPr>
              <a:stCxn id="461" idx="2"/>
              <a:endCxn id="467" idx="0"/>
            </p:cNvCxnSpPr>
            <p:nvPr/>
          </p:nvCxnSpPr>
          <p:spPr>
            <a:xfrm>
              <a:off x="4572000" y="1752840"/>
              <a:ext cx="38880" cy="457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5" name=""/>
            <p:cNvCxnSpPr>
              <a:stCxn id="462" idx="2"/>
              <a:endCxn id="467" idx="0"/>
            </p:cNvCxnSpPr>
            <p:nvPr/>
          </p:nvCxnSpPr>
          <p:spPr>
            <a:xfrm flipH="1">
              <a:off x="4609440" y="1752840"/>
              <a:ext cx="2858040" cy="457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6" name=""/>
            <p:cNvSpPr/>
            <p:nvPr/>
          </p:nvSpPr>
          <p:spPr>
            <a:xfrm>
              <a:off x="60948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9092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8128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6272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0080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34520" y="495324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85800" y="2970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60600" y="0"/>
            <a:ext cx="60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erkmale einer Learning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ei der Pilotgru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990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8200" y="1393920"/>
            <a:ext cx="833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örderung von individuellem und Kollektivem Wissenszuwa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formations- und Wissensaustausch sowie Aushandeln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deu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rnen aus Erfahrungen und Fehl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von Prozessen der Selbststeuerung und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örderung von Vertrauen und Gruppenident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85800" y="2970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75000" y="0"/>
            <a:ext cx="602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rfahrungen aus dem Pilotprojek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0 Lessons Learned zu WM-Projek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990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640" y="1452600"/>
            <a:ext cx="84834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n geeigneten Ansatzpunkt f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handenen Leidensdruck nutzen, Veränderungsdruck erzeu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lagkräftige Teams bilden. Das „Mentorenmodell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ein anfangen und schnell Erfolg vorwei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Qualifizierungsmaßnahmen die Basis 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297000"/>
            <a:ext cx="463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75000" y="0"/>
            <a:ext cx="602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rfahrungen aus dem Pilotprojek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0 Lessons Learned zu WM-Projek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990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3840" y="1376280"/>
            <a:ext cx="6877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mmunizieren und überzeu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artungen im Vorfeld abklä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Best Practice beginnen und von Experten ler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ffektiven Erfahrungsaustausch för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lexibilität in der Projektkonzeption einpl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33520" y="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Knowledge Master – </a:t>
            </a:r>
            <a:br>
              <a:rPr sz="2600"/>
            </a:b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Ein kooperatives Weiterbildungsangebot (6 Monat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8960" y="9144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6240" y="1447920"/>
            <a:ext cx="331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Siemens Qualifizier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und Training (SQ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21840" y="1501920"/>
            <a:ext cx="4019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Ludwig-Maximilians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Universität München (LM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200400"/>
            <a:ext cx="8006040" cy="2257560"/>
            <a:chOff x="304920" y="3200400"/>
            <a:chExt cx="8006040" cy="2257560"/>
          </a:xfrm>
        </p:grpSpPr>
        <p:sp>
          <p:nvSpPr>
            <p:cNvPr id="499" name=""/>
            <p:cNvSpPr/>
            <p:nvPr/>
          </p:nvSpPr>
          <p:spPr>
            <a:xfrm>
              <a:off x="1781640" y="3479760"/>
              <a:ext cx="73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ff0000"/>
                  </a:solidFill>
                  <a:latin typeface="Times New Roman"/>
                </a:rPr>
                <a:t>Zie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30840" y="3473280"/>
              <a:ext cx="5280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Times New Roman"/>
                </a:rPr>
                <a:t>Ausbildung zum „Knowledge Master“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605600" y="4524480"/>
              <a:ext cx="6704280" cy="933480"/>
              <a:chOff x="1605600" y="4524480"/>
              <a:chExt cx="6704280" cy="933480"/>
            </a:xfrm>
          </p:grpSpPr>
          <p:sp>
            <p:nvSpPr>
              <p:cNvPr id="502" name=""/>
              <p:cNvSpPr/>
              <p:nvPr/>
            </p:nvSpPr>
            <p:spPr>
              <a:xfrm>
                <a:off x="1605600" y="4524480"/>
                <a:ext cx="1192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600" spc="-1" strike="noStrike">
                    <a:solidFill>
                      <a:srgbClr val="ff0000"/>
                    </a:solidFill>
                    <a:latin typeface="Times New Roman"/>
                  </a:rPr>
                  <a:t>Ziel-</a:t>
                </a:r>
                <a:br>
                  <a:rPr sz="2600"/>
                </a:br>
                <a:r>
                  <a:rPr b="1" lang="de-DE" sz="2600" spc="-1" strike="noStrike">
                    <a:solidFill>
                      <a:srgbClr val="ff0000"/>
                    </a:solidFill>
                    <a:latin typeface="Times New Roman"/>
                  </a:rPr>
                  <a:t>grupp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005640" y="4572000"/>
                <a:ext cx="53042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600" spc="-1" strike="noStrike">
                    <a:solidFill>
                      <a:srgbClr val="000000"/>
                    </a:solidFill>
                    <a:latin typeface="Times New Roman"/>
                  </a:rPr>
                  <a:t>Führungskräfte in Unternehmen und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600" spc="-1" strike="noStrike">
                    <a:solidFill>
                      <a:srgbClr val="000000"/>
                    </a:solidFill>
                    <a:latin typeface="Times New Roman"/>
                  </a:rPr>
                  <a:t>Organisationen, aber auch Studierend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04" name="BS00544_(p)" descr=""/>
            <p:cNvPicPr/>
            <p:nvPr/>
          </p:nvPicPr>
          <p:blipFill>
            <a:blip r:embed="rId1"/>
            <a:stretch/>
          </p:blipFill>
          <p:spPr>
            <a:xfrm>
              <a:off x="304920" y="3200400"/>
              <a:ext cx="1463760" cy="146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04720" y="0"/>
            <a:ext cx="4517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ozu Wissens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5120" y="60948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j0078748(p)" descr=""/>
          <p:cNvPicPr/>
          <p:nvPr/>
        </p:nvPicPr>
        <p:blipFill>
          <a:blip r:embed="rId1"/>
          <a:stretch/>
        </p:blipFill>
        <p:spPr>
          <a:xfrm>
            <a:off x="6461280" y="3870360"/>
            <a:ext cx="2606400" cy="26067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920" y="762120"/>
            <a:ext cx="7322760" cy="5105160"/>
            <a:chOff x="601920" y="762120"/>
            <a:chExt cx="7322760" cy="5105160"/>
          </a:xfrm>
        </p:grpSpPr>
        <p:sp>
          <p:nvSpPr>
            <p:cNvPr id="61" name=""/>
            <p:cNvSpPr/>
            <p:nvPr/>
          </p:nvSpPr>
          <p:spPr>
            <a:xfrm>
              <a:off x="601920" y="762120"/>
              <a:ext cx="66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as man durch Wissensmanagement erreichen kan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2120" y="1447920"/>
              <a:ext cx="716256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undennähe verbesser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69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2120" y="1981080"/>
              <a:ext cx="61722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Innovationsfähigkeit erhöhe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59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2120" y="2590920"/>
              <a:ext cx="61722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Produktqualität verbesser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59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2120" y="3200400"/>
              <a:ext cx="601956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osten senke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   57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3809880"/>
              <a:ext cx="6019560" cy="381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reativität der Mitarbeiter förder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   57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2120" y="4419720"/>
              <a:ext cx="579096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Wachstum steiger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55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2120" y="4952880"/>
              <a:ext cx="5562360" cy="381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Produktivität erhöhe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53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5486400"/>
              <a:ext cx="5181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Durchlaufzeiten minimieren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     45 %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79440" y="633888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Quelle: Heisig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533520" y="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Zielsetzung des Curriculums Knowledge Mast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8960" y="53352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15120" y="762120"/>
            <a:ext cx="7569000" cy="2104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Sensibilisierung für Wissens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Vermittlung von Konzepten, Werkzeugen und Strategien z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Wissens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Vorbereitung auf spätere eigenständige Projektarbe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6320" y="3290760"/>
            <a:ext cx="9067680" cy="2500560"/>
            <a:chOff x="76320" y="3290760"/>
            <a:chExt cx="9067680" cy="2500560"/>
          </a:xfrm>
        </p:grpSpPr>
        <p:sp>
          <p:nvSpPr>
            <p:cNvPr id="509" name=""/>
            <p:cNvSpPr/>
            <p:nvPr/>
          </p:nvSpPr>
          <p:spPr>
            <a:xfrm>
              <a:off x="76320" y="4495680"/>
              <a:ext cx="2895480" cy="1295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Betriebswirtschafts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leh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Lehrstuhl Pico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00400" y="4495680"/>
              <a:ext cx="2895480" cy="1295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Informati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Lehrstuhl Wirs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48520" y="4495680"/>
              <a:ext cx="2895480" cy="1295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Psychologi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800000"/>
                  </a:solidFill>
                  <a:latin typeface="Times New Roman"/>
                </a:rPr>
                <a:t>Lehrstuhl Mand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47760" y="3290760"/>
              <a:ext cx="316764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800000"/>
                  </a:solidFill>
                  <a:latin typeface="Times New Roman"/>
                </a:rPr>
                <a:t>Multidisziplinaritä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3" name=""/>
            <p:cNvCxnSpPr>
              <a:stCxn id="512" idx="1"/>
              <a:endCxn id="509" idx="0"/>
            </p:cNvCxnSpPr>
            <p:nvPr/>
          </p:nvCxnSpPr>
          <p:spPr>
            <a:xfrm flipH="1">
              <a:off x="1523520" y="3551040"/>
              <a:ext cx="1524960" cy="94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4" name=""/>
            <p:cNvCxnSpPr>
              <a:stCxn id="512" idx="2"/>
              <a:endCxn id="510" idx="0"/>
            </p:cNvCxnSpPr>
            <p:nvPr/>
          </p:nvCxnSpPr>
          <p:spPr>
            <a:xfrm>
              <a:off x="4632480" y="3809520"/>
              <a:ext cx="1656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3"/>
              <a:endCxn id="511" idx="0"/>
            </p:cNvCxnSpPr>
            <p:nvPr/>
          </p:nvCxnSpPr>
          <p:spPr>
            <a:xfrm>
              <a:off x="6215040" y="3551040"/>
              <a:ext cx="1481760" cy="94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"/>
          <p:cNvGrpSpPr/>
          <p:nvPr/>
        </p:nvGrpSpPr>
        <p:grpSpPr>
          <a:xfrm>
            <a:off x="76320" y="4465800"/>
            <a:ext cx="8534160" cy="1218960"/>
            <a:chOff x="76320" y="4465800"/>
            <a:chExt cx="8534160" cy="1218960"/>
          </a:xfrm>
        </p:grpSpPr>
        <p:sp>
          <p:nvSpPr>
            <p:cNvPr id="517" name=""/>
            <p:cNvSpPr/>
            <p:nvPr/>
          </p:nvSpPr>
          <p:spPr>
            <a:xfrm>
              <a:off x="76320" y="4465800"/>
              <a:ext cx="8534160" cy="121896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72727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8000">
              <a:off x="2209320" y="477036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969696"/>
                  </a:solidFill>
                  <a:latin typeface="Times New Roman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98720" y="5151600"/>
              <a:ext cx="35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Coaching und Instruk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-152280" y="2133720"/>
            <a:ext cx="2743200" cy="2806560"/>
            <a:chOff x="-152280" y="2133720"/>
            <a:chExt cx="2743200" cy="2806560"/>
          </a:xfrm>
        </p:grpSpPr>
        <p:sp>
          <p:nvSpPr>
            <p:cNvPr id="521" name=""/>
            <p:cNvSpPr/>
            <p:nvPr/>
          </p:nvSpPr>
          <p:spPr>
            <a:xfrm>
              <a:off x="76320" y="3276720"/>
              <a:ext cx="1523880" cy="1219320"/>
            </a:xfrm>
            <a:prstGeom prst="rect">
              <a:avLst/>
            </a:pr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Ba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od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8600" y="45720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4 Wo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-152280" y="2133720"/>
              <a:ext cx="1066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Kick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120" y="2133720"/>
              <a:ext cx="182880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Feedback-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600" y="2838600"/>
              <a:ext cx="30492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23880" y="2838600"/>
              <a:ext cx="30492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7" name="logo1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762120" cy="7333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685800" y="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Design und das Curriculum d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Knowledge Master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600200" y="3627360"/>
            <a:ext cx="1676520" cy="1282680"/>
            <a:chOff x="1600200" y="3627360"/>
            <a:chExt cx="1676520" cy="1282680"/>
          </a:xfrm>
        </p:grpSpPr>
        <p:sp>
          <p:nvSpPr>
            <p:cNvPr id="530" name=""/>
            <p:cNvSpPr/>
            <p:nvPr/>
          </p:nvSpPr>
          <p:spPr>
            <a:xfrm>
              <a:off x="1600200" y="3627360"/>
              <a:ext cx="1676520" cy="457200"/>
            </a:xfrm>
            <a:prstGeom prst="rect">
              <a:avLst/>
            </a:pr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Transfer 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52480" y="4541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2 Wo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049920" y="2103480"/>
            <a:ext cx="2817360" cy="2806560"/>
            <a:chOff x="3049920" y="2103480"/>
            <a:chExt cx="2817360" cy="2806560"/>
          </a:xfrm>
        </p:grpSpPr>
        <p:sp>
          <p:nvSpPr>
            <p:cNvPr id="533" name=""/>
            <p:cNvSpPr/>
            <p:nvPr/>
          </p:nvSpPr>
          <p:spPr>
            <a:xfrm>
              <a:off x="3200400" y="3246480"/>
              <a:ext cx="1752480" cy="1219320"/>
            </a:xfrm>
            <a:prstGeom prst="rect">
              <a:avLst/>
            </a:pr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od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kommun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43400" y="2103480"/>
              <a:ext cx="15238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Virtueller-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52880" y="2808360"/>
              <a:ext cx="30492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9920" y="2395440"/>
              <a:ext cx="7642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o-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76720" y="2808360"/>
              <a:ext cx="30456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29000" y="4541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6 Wo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952880" y="3627360"/>
            <a:ext cx="1676520" cy="1282680"/>
            <a:chOff x="4952880" y="3627360"/>
            <a:chExt cx="1676520" cy="1282680"/>
          </a:xfrm>
        </p:grpSpPr>
        <p:sp>
          <p:nvSpPr>
            <p:cNvPr id="540" name=""/>
            <p:cNvSpPr/>
            <p:nvPr/>
          </p:nvSpPr>
          <p:spPr>
            <a:xfrm>
              <a:off x="4952880" y="3627360"/>
              <a:ext cx="1676520" cy="457200"/>
            </a:xfrm>
            <a:prstGeom prst="rect">
              <a:avLst/>
            </a:pr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Transfer Phase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81480" y="4541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5 Wo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172200" y="2103480"/>
            <a:ext cx="2819520" cy="2806560"/>
            <a:chOff x="6172200" y="2103480"/>
            <a:chExt cx="2819520" cy="2806560"/>
          </a:xfrm>
        </p:grpSpPr>
        <p:sp>
          <p:nvSpPr>
            <p:cNvPr id="543" name=""/>
            <p:cNvSpPr/>
            <p:nvPr/>
          </p:nvSpPr>
          <p:spPr>
            <a:xfrm>
              <a:off x="6172200" y="2395440"/>
              <a:ext cx="10666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o-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3800" y="2103480"/>
              <a:ext cx="14479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bschluss-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53080" y="2808360"/>
              <a:ext cx="30492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77320" y="2808360"/>
              <a:ext cx="304560" cy="152280"/>
            </a:xfrm>
            <a:prstGeom prst="flowChartMerg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05720" y="4541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5 Wo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77120" y="3246480"/>
              <a:ext cx="1676160" cy="1219320"/>
            </a:xfrm>
            <a:prstGeom prst="rect">
              <a:avLst/>
            </a:pr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od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848720" y="3627000"/>
            <a:ext cx="1218960" cy="2057760"/>
            <a:chOff x="7848720" y="3627000"/>
            <a:chExt cx="1218960" cy="2057760"/>
          </a:xfrm>
        </p:grpSpPr>
        <p:sp>
          <p:nvSpPr>
            <p:cNvPr id="550" name=""/>
            <p:cNvSpPr/>
            <p:nvPr/>
          </p:nvSpPr>
          <p:spPr>
            <a:xfrm>
              <a:off x="7848720" y="4465800"/>
              <a:ext cx="1143000" cy="12189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LMU &amp; SQ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10800000">
              <a:off x="8153280" y="3627000"/>
              <a:ext cx="914400" cy="1143000"/>
            </a:xfrm>
            <a:custGeom>
              <a:avLst/>
              <a:gdLst>
                <a:gd name="textAreaLeft" fmla="*/ 305280 w 914400"/>
                <a:gd name="textAreaRight" fmla="*/ 783720 w 914400"/>
                <a:gd name="textAreaTop" fmla="*/ 658440 h 1143000"/>
                <a:gd name="textAreaBottom" fmla="*/ 9792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7c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Zertifik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0" y="1523880"/>
            <a:ext cx="9144000" cy="5796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nowledg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76320" y="5410080"/>
            <a:ext cx="8991000" cy="974520"/>
            <a:chOff x="76320" y="5410080"/>
            <a:chExt cx="8991000" cy="974520"/>
          </a:xfrm>
        </p:grpSpPr>
        <p:sp>
          <p:nvSpPr>
            <p:cNvPr id="554" name=""/>
            <p:cNvSpPr/>
            <p:nvPr/>
          </p:nvSpPr>
          <p:spPr>
            <a:xfrm>
              <a:off x="76320" y="5410080"/>
              <a:ext cx="8991000" cy="974520"/>
            </a:xfrm>
            <a:prstGeom prst="rightArrow">
              <a:avLst>
                <a:gd name="adj1" fmla="val 50000"/>
                <a:gd name="adj2" fmla="val 194858"/>
              </a:avLst>
            </a:prstGeom>
            <a:gradFill rotWithShape="0">
              <a:gsLst>
                <a:gs pos="0">
                  <a:srgbClr val="757546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4440" y="5679720"/>
              <a:ext cx="2524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allorient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0080" y="5655240"/>
              <a:ext cx="2520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mmunity-Bezu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7" name="lmulogo" descr=""/>
          <p:cNvPicPr/>
          <p:nvPr/>
        </p:nvPicPr>
        <p:blipFill>
          <a:blip r:embed="rId2"/>
          <a:stretch/>
        </p:blipFill>
        <p:spPr>
          <a:xfrm>
            <a:off x="8228160" y="152280"/>
            <a:ext cx="915840" cy="4636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1430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57200" y="-76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Virtuelle Learning Communities: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Beispiel: Le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867040" y="2406600"/>
            <a:ext cx="2819520" cy="2438280"/>
            <a:chOff x="2867040" y="2406600"/>
            <a:chExt cx="2819520" cy="2438280"/>
          </a:xfrm>
        </p:grpSpPr>
        <p:sp>
          <p:nvSpPr>
            <p:cNvPr id="561" name=""/>
            <p:cNvSpPr/>
            <p:nvPr/>
          </p:nvSpPr>
          <p:spPr>
            <a:xfrm flipH="1">
              <a:off x="2867040" y="2406600"/>
              <a:ext cx="838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847760" y="4082760"/>
              <a:ext cx="8384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7040" y="4082760"/>
              <a:ext cx="838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48120" y="2406600"/>
              <a:ext cx="8384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67040" y="316836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86560" y="316836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05120" y="2406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05120" y="4844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54640" y="3182760"/>
              <a:ext cx="136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000000"/>
                  </a:solidFill>
                  <a:latin typeface="Times New Roman"/>
                </a:rPr>
                <a:t>LeC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05120" y="2558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4695840" y="4006440"/>
              <a:ext cx="838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533920" y="2414520"/>
            <a:ext cx="2460960" cy="905040"/>
            <a:chOff x="5533920" y="2414520"/>
            <a:chExt cx="2460960" cy="905040"/>
          </a:xfrm>
        </p:grpSpPr>
        <p:pic>
          <p:nvPicPr>
            <p:cNvPr id="573" name="BD21294_" descr=""/>
            <p:cNvPicPr/>
            <p:nvPr/>
          </p:nvPicPr>
          <p:blipFill>
            <a:blip r:embed="rId1"/>
            <a:stretch/>
          </p:blipFill>
          <p:spPr>
            <a:xfrm>
              <a:off x="5533920" y="3016440"/>
              <a:ext cx="30348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 flipV="1">
              <a:off x="5838840" y="278784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370920" y="241452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Kreativitä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533920" y="3252960"/>
            <a:ext cx="3249000" cy="1526400"/>
            <a:chOff x="5533920" y="3252960"/>
            <a:chExt cx="3249000" cy="1526400"/>
          </a:xfrm>
        </p:grpSpPr>
        <p:pic>
          <p:nvPicPr>
            <p:cNvPr id="577" name="BD21294_" descr=""/>
            <p:cNvPicPr/>
            <p:nvPr/>
          </p:nvPicPr>
          <p:blipFill>
            <a:blip r:embed="rId2"/>
            <a:stretch/>
          </p:blipFill>
          <p:spPr>
            <a:xfrm>
              <a:off x="5533920" y="3930840"/>
              <a:ext cx="30348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 flipV="1">
              <a:off x="5838840" y="35496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38840" y="40831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78640" y="325296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Ler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48680" y="4319640"/>
              <a:ext cx="23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Kommun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368360" y="4694400"/>
            <a:ext cx="2487600" cy="1151640"/>
            <a:chOff x="1368360" y="4694400"/>
            <a:chExt cx="2487600" cy="1151640"/>
          </a:xfrm>
        </p:grpSpPr>
        <p:pic>
          <p:nvPicPr>
            <p:cNvPr id="583" name="BD21294_" descr=""/>
            <p:cNvPicPr/>
            <p:nvPr/>
          </p:nvPicPr>
          <p:blipFill>
            <a:blip r:embed="rId3"/>
            <a:stretch/>
          </p:blipFill>
          <p:spPr>
            <a:xfrm>
              <a:off x="3552840" y="4694400"/>
              <a:ext cx="30312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 flipH="1">
              <a:off x="3019320" y="492120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68360" y="538632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Wachst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677960" y="3930480"/>
            <a:ext cx="1368360" cy="924840"/>
            <a:chOff x="1677960" y="3930480"/>
            <a:chExt cx="1368360" cy="924840"/>
          </a:xfrm>
        </p:grpSpPr>
        <p:pic>
          <p:nvPicPr>
            <p:cNvPr id="587" name="BD21294_" descr=""/>
            <p:cNvPicPr/>
            <p:nvPr/>
          </p:nvPicPr>
          <p:blipFill>
            <a:blip r:embed="rId4"/>
            <a:stretch/>
          </p:blipFill>
          <p:spPr>
            <a:xfrm>
              <a:off x="2743200" y="3930480"/>
              <a:ext cx="30312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1677960" y="4395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133360" y="4159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06720" y="2262240"/>
            <a:ext cx="2739600" cy="1057320"/>
            <a:chOff x="306720" y="2262240"/>
            <a:chExt cx="2739600" cy="1057320"/>
          </a:xfrm>
        </p:grpSpPr>
        <p:pic>
          <p:nvPicPr>
            <p:cNvPr id="591" name="BD21294_" descr=""/>
            <p:cNvPicPr/>
            <p:nvPr/>
          </p:nvPicPr>
          <p:blipFill>
            <a:blip r:embed="rId5"/>
            <a:stretch/>
          </p:blipFill>
          <p:spPr>
            <a:xfrm>
              <a:off x="2743200" y="3016440"/>
              <a:ext cx="30312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06720" y="226224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Vernetz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2209680" y="263484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370520" y="1271520"/>
            <a:ext cx="3350520" cy="1285920"/>
            <a:chOff x="1370520" y="1271520"/>
            <a:chExt cx="3350520" cy="1285920"/>
          </a:xfrm>
        </p:grpSpPr>
        <p:sp>
          <p:nvSpPr>
            <p:cNvPr id="595" name=""/>
            <p:cNvSpPr/>
            <p:nvPr/>
          </p:nvSpPr>
          <p:spPr>
            <a:xfrm>
              <a:off x="1370520" y="1271520"/>
              <a:ext cx="335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Eigenverantwortlichk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BD21294_" descr=""/>
            <p:cNvPicPr/>
            <p:nvPr/>
          </p:nvPicPr>
          <p:blipFill>
            <a:blip r:embed="rId6"/>
            <a:stretch/>
          </p:blipFill>
          <p:spPr>
            <a:xfrm>
              <a:off x="3506760" y="2254320"/>
              <a:ext cx="30312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 flipH="1" flipV="1">
              <a:off x="3047760" y="17208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2074320" y="6064200"/>
            <a:ext cx="6921360" cy="48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990033"/>
                </a:solidFill>
                <a:latin typeface="Times New Roman"/>
              </a:rPr>
              <a:t>Eine Plattform für aktives Wissensmanag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57200" y="99072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457200" y="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LeCO: Learning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38000" y="3505320"/>
            <a:ext cx="6879600" cy="2135160"/>
            <a:chOff x="738000" y="3505320"/>
            <a:chExt cx="6879600" cy="2135160"/>
          </a:xfrm>
        </p:grpSpPr>
        <p:sp>
          <p:nvSpPr>
            <p:cNvPr id="602" name=""/>
            <p:cNvSpPr/>
            <p:nvPr/>
          </p:nvSpPr>
          <p:spPr>
            <a:xfrm>
              <a:off x="738000" y="3505320"/>
              <a:ext cx="450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2. LeCo als Informationsspeic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1271880" y="4138560"/>
              <a:ext cx="6345720" cy="1501920"/>
              <a:chOff x="1271880" y="4138560"/>
              <a:chExt cx="6345720" cy="150192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1271880" y="4138560"/>
                <a:ext cx="6345720" cy="429120"/>
                <a:chOff x="1271880" y="4138560"/>
                <a:chExt cx="6345720" cy="429120"/>
              </a:xfrm>
            </p:grpSpPr>
            <p:pic>
              <p:nvPicPr>
                <p:cNvPr id="605" name="BD21294_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71880" y="4257360"/>
                  <a:ext cx="22860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6" name=""/>
                <p:cNvSpPr/>
                <p:nvPr/>
              </p:nvSpPr>
              <p:spPr>
                <a:xfrm>
                  <a:off x="1578600" y="4138560"/>
                  <a:ext cx="60390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Für persönlich gemachte Erfahrungen des Einzelnen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1271880" y="4677840"/>
                <a:ext cx="2877840" cy="429120"/>
                <a:chOff x="1271880" y="4677840"/>
                <a:chExt cx="2877840" cy="429120"/>
              </a:xfrm>
            </p:grpSpPr>
            <p:pic>
              <p:nvPicPr>
                <p:cNvPr id="608" name="BD21294_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71880" y="4796640"/>
                  <a:ext cx="22860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9" name=""/>
                <p:cNvSpPr/>
                <p:nvPr/>
              </p:nvSpPr>
              <p:spPr>
                <a:xfrm>
                  <a:off x="1577880" y="4677840"/>
                  <a:ext cx="25718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Sammlung von Ideen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271880" y="5211360"/>
                <a:ext cx="6226200" cy="429120"/>
                <a:chOff x="1271880" y="5211360"/>
                <a:chExt cx="6226200" cy="429120"/>
              </a:xfrm>
            </p:grpSpPr>
            <p:pic>
              <p:nvPicPr>
                <p:cNvPr id="611" name="BD21294_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71880" y="5330160"/>
                  <a:ext cx="22860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2" name=""/>
                <p:cNvSpPr/>
                <p:nvPr/>
              </p:nvSpPr>
              <p:spPr>
                <a:xfrm>
                  <a:off x="1579320" y="5211360"/>
                  <a:ext cx="5918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Darstellung spezieller Kompetenzen der Mitglied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3" name=""/>
          <p:cNvGrpSpPr/>
          <p:nvPr/>
        </p:nvGrpSpPr>
        <p:grpSpPr>
          <a:xfrm>
            <a:off x="740160" y="838080"/>
            <a:ext cx="5652000" cy="2211840"/>
            <a:chOff x="740160" y="838080"/>
            <a:chExt cx="5652000" cy="2211840"/>
          </a:xfrm>
        </p:grpSpPr>
        <p:sp>
          <p:nvSpPr>
            <p:cNvPr id="614" name=""/>
            <p:cNvSpPr/>
            <p:nvPr/>
          </p:nvSpPr>
          <p:spPr>
            <a:xfrm>
              <a:off x="740160" y="838080"/>
              <a:ext cx="40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a50021"/>
                  </a:solidFill>
                  <a:latin typeface="Times New Roman"/>
                </a:rPr>
                <a:t>1. LeCo als Diskussionsfor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271880" y="1447560"/>
              <a:ext cx="5120280" cy="1602360"/>
              <a:chOff x="1271880" y="1447560"/>
              <a:chExt cx="5120280" cy="160236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1271880" y="1447560"/>
                <a:ext cx="5120280" cy="429120"/>
                <a:chOff x="1271880" y="1447560"/>
                <a:chExt cx="5120280" cy="429120"/>
              </a:xfrm>
            </p:grpSpPr>
            <p:pic>
              <p:nvPicPr>
                <p:cNvPr id="617" name="BD21294_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71880" y="1566720"/>
                  <a:ext cx="22860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>
                  <a:off x="1576800" y="1447560"/>
                  <a:ext cx="48153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Diskussion über persönliche Erfahrungen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1271880" y="2011320"/>
                <a:ext cx="3030480" cy="429120"/>
                <a:chOff x="1271880" y="2011320"/>
                <a:chExt cx="3030480" cy="429120"/>
              </a:xfrm>
            </p:grpSpPr>
            <p:pic>
              <p:nvPicPr>
                <p:cNvPr id="620" name="BD21294_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71880" y="2130480"/>
                  <a:ext cx="22860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1" name=""/>
                <p:cNvSpPr/>
                <p:nvPr/>
              </p:nvSpPr>
              <p:spPr>
                <a:xfrm>
                  <a:off x="1576440" y="2011320"/>
                  <a:ext cx="2725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Austausch von Wissen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1271880" y="2620800"/>
                <a:ext cx="4537800" cy="429120"/>
                <a:chOff x="1271880" y="2620800"/>
                <a:chExt cx="4537800" cy="429120"/>
              </a:xfrm>
            </p:grpSpPr>
            <p:pic>
              <p:nvPicPr>
                <p:cNvPr id="623" name="BD21294_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271880" y="2739960"/>
                  <a:ext cx="22860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"/>
                <p:cNvSpPr/>
                <p:nvPr/>
              </p:nvSpPr>
              <p:spPr>
                <a:xfrm>
                  <a:off x="1576800" y="2620800"/>
                  <a:ext cx="42328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200" spc="-1" strike="noStrike">
                      <a:solidFill>
                        <a:srgbClr val="000000"/>
                      </a:solidFill>
                      <a:latin typeface="Times New Roman"/>
                    </a:rPr>
                    <a:t>Kontakt zu den anderen Mitgliedern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5" name=""/>
          <p:cNvSpPr/>
          <p:nvPr/>
        </p:nvSpPr>
        <p:spPr>
          <a:xfrm>
            <a:off x="457200" y="6094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533520" y="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e zentralen Aspekte von Learning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76520" y="990720"/>
            <a:ext cx="5867280" cy="4038480"/>
            <a:chOff x="1676520" y="990720"/>
            <a:chExt cx="5867280" cy="4038480"/>
          </a:xfrm>
        </p:grpSpPr>
        <p:sp>
          <p:nvSpPr>
            <p:cNvPr id="628" name=""/>
            <p:cNvSpPr/>
            <p:nvPr/>
          </p:nvSpPr>
          <p:spPr>
            <a:xfrm>
              <a:off x="1676520" y="990720"/>
              <a:ext cx="5867280" cy="4038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75640" y="990720"/>
              <a:ext cx="27882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Times New Roman"/>
                </a:rPr>
                <a:t>Informell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600" spc="-1" strike="noStrike">
                  <a:solidFill>
                    <a:srgbClr val="000000"/>
                  </a:solidFill>
                  <a:latin typeface="Times New Roman"/>
                </a:rPr>
                <a:t>Personennetzwer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81280" y="2438280"/>
              <a:ext cx="1981440" cy="106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„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orreiter“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K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33520" y="3657600"/>
            <a:ext cx="7619760" cy="2666880"/>
            <a:chOff x="533520" y="3657600"/>
            <a:chExt cx="7619760" cy="2666880"/>
          </a:xfrm>
        </p:grpSpPr>
        <p:sp>
          <p:nvSpPr>
            <p:cNvPr id="632" name=""/>
            <p:cNvSpPr/>
            <p:nvPr/>
          </p:nvSpPr>
          <p:spPr>
            <a:xfrm>
              <a:off x="3505320" y="3886200"/>
              <a:ext cx="2133360" cy="990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Gemeinsam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Identitä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als Grupp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77120" y="3657600"/>
              <a:ext cx="1676160" cy="762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geteil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Ressourc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3520" y="3657600"/>
              <a:ext cx="2514600" cy="762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Eigenverantwortung/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Selbstorganis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14600" y="5029200"/>
              <a:ext cx="4114800" cy="533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Gemeinsame Verständigungsbasi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05120" y="5867280"/>
              <a:ext cx="556236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Gemeinsame Interessen / Problemstellung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09480" y="1143000"/>
            <a:ext cx="2590920" cy="2057400"/>
            <a:chOff x="609480" y="1143000"/>
            <a:chExt cx="2590920" cy="2057400"/>
          </a:xfrm>
        </p:grpSpPr>
        <p:sp>
          <p:nvSpPr>
            <p:cNvPr id="638" name=""/>
            <p:cNvSpPr/>
            <p:nvPr/>
          </p:nvSpPr>
          <p:spPr>
            <a:xfrm>
              <a:off x="609480" y="1143000"/>
              <a:ext cx="2590920" cy="68580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ommunikation/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ooper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2514600"/>
              <a:ext cx="1752840" cy="6858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Erfahrungs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austausc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172200" y="1143000"/>
            <a:ext cx="2819520" cy="1905120"/>
            <a:chOff x="6172200" y="1143000"/>
            <a:chExt cx="2819520" cy="1905120"/>
          </a:xfrm>
        </p:grpSpPr>
        <p:sp>
          <p:nvSpPr>
            <p:cNvPr id="641" name=""/>
            <p:cNvSpPr/>
            <p:nvPr/>
          </p:nvSpPr>
          <p:spPr>
            <a:xfrm flipH="1">
              <a:off x="6172200" y="1143000"/>
              <a:ext cx="2209680" cy="685800"/>
            </a:xfrm>
            <a:custGeom>
              <a:avLst/>
              <a:gdLst>
                <a:gd name="textAreaLeft" fmla="*/ 360 w 2209680"/>
                <a:gd name="textAreaRight" fmla="*/ 2210400 w 22096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schaffu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6553080" y="2362320"/>
              <a:ext cx="2438640" cy="685800"/>
            </a:xfrm>
            <a:custGeom>
              <a:avLst/>
              <a:gdLst>
                <a:gd name="textAreaLeft" fmla="*/ 0 w 2438640"/>
                <a:gd name="textAreaRight" fmla="*/ 2438640 w 24386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Wechselseitig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Lern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57200" y="6094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619920" y="-5076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Kritische Erfolgsfaktoren für 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5335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2590920"/>
            <a:ext cx="2438280" cy="2133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n Wissen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914400"/>
            <a:ext cx="6933960" cy="5486400"/>
          </a:xfrm>
          <a:prstGeom prst="hexagon">
            <a:avLst>
              <a:gd name="adj" fmla="val 3159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743200" y="91440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105160" y="91440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5715000" y="3657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743200" y="4648320"/>
            <a:ext cx="12952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5028840" y="464832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657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25280" y="2286000"/>
            <a:ext cx="186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Motivation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Qualifik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der Mitarbei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86400" y="4038480"/>
            <a:ext cx="186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Unterstütz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durch 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Geschäfts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lei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048120" y="522756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Integration v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Wissensproz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in Geschäfts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14400" y="3581280"/>
            <a:ext cx="3124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Neue Informa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tions- &amp;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Kommuni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kations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technolog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9720" y="22096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71800" y="12952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ganisations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kult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916280" y="-50760"/>
            <a:ext cx="585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Leitgrafik für die Forschungsgru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management &amp; Innovation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7600" y="6126120"/>
            <a:ext cx="420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edingungsgefüge zwisc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issensmanagement und 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00960" y="1168200"/>
            <a:ext cx="8690760" cy="5283360"/>
            <a:chOff x="300960" y="1168200"/>
            <a:chExt cx="8690760" cy="5283360"/>
          </a:xfrm>
        </p:grpSpPr>
        <p:sp>
          <p:nvSpPr>
            <p:cNvPr id="664" name=""/>
            <p:cNvSpPr/>
            <p:nvPr/>
          </p:nvSpPr>
          <p:spPr>
            <a:xfrm rot="21597000">
              <a:off x="302760" y="1219320"/>
              <a:ext cx="1295640" cy="4572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6230600">
              <a:off x="-1315800" y="3096720"/>
              <a:ext cx="461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Äußere Bedingung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(Organisation, Markt, Gesellschaft etc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1597000">
              <a:off x="2361960" y="1217520"/>
              <a:ext cx="3960720" cy="4573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62320" y="160020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78760" y="1219320"/>
              <a:ext cx="13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dividu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819520" y="12193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127400">
              <a:off x="2129760" y="325440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ech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5386200">
              <a:off x="5376240" y="3168360"/>
              <a:ext cx="149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Organis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67280" y="12193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77840" y="5410080"/>
              <a:ext cx="94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Grup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541008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99120" y="1752480"/>
              <a:ext cx="170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-reprä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-nutz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24080" y="3048120"/>
              <a:ext cx="2514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WISSENS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04440" y="4251240"/>
              <a:ext cx="188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-kommun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-generi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2920" y="1219320"/>
              <a:ext cx="1828800" cy="4647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ven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Exploi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91520" y="3352680"/>
              <a:ext cx="144756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Inno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676520" y="2362320"/>
              <a:ext cx="685800" cy="409320"/>
            </a:xfrm>
            <a:prstGeom prst="rightArrow">
              <a:avLst>
                <a:gd name="adj1" fmla="val 50000"/>
                <a:gd name="adj2" fmla="val 418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676520" y="3933720"/>
              <a:ext cx="685800" cy="409680"/>
            </a:xfrm>
            <a:prstGeom prst="rightArrow">
              <a:avLst>
                <a:gd name="adj1" fmla="val 50000"/>
                <a:gd name="adj2" fmla="val 4185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00800" y="2486160"/>
              <a:ext cx="685800" cy="409320"/>
            </a:xfrm>
            <a:prstGeom prst="rightArrow">
              <a:avLst>
                <a:gd name="adj1" fmla="val 50000"/>
                <a:gd name="adj2" fmla="val 418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00800" y="3019320"/>
              <a:ext cx="685800" cy="409680"/>
            </a:xfrm>
            <a:prstGeom prst="rightArrow">
              <a:avLst>
                <a:gd name="adj1" fmla="val 50000"/>
                <a:gd name="adj2" fmla="val 4185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00800" y="3629160"/>
              <a:ext cx="685800" cy="409320"/>
            </a:xfrm>
            <a:prstGeom prst="rightArrow">
              <a:avLst>
                <a:gd name="adj1" fmla="val 50000"/>
                <a:gd name="adj2" fmla="val 418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00800" y="4238640"/>
              <a:ext cx="685800" cy="409680"/>
            </a:xfrm>
            <a:prstGeom prst="rightArrow">
              <a:avLst>
                <a:gd name="adj1" fmla="val 50000"/>
                <a:gd name="adj2" fmla="val 4185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0995000">
              <a:off x="4025880" y="5930640"/>
              <a:ext cx="4500720" cy="393480"/>
            </a:xfrm>
            <a:custGeom>
              <a:avLst/>
              <a:gdLst>
                <a:gd name="textAreaLeft" fmla="*/ 787680 w 4500720"/>
                <a:gd name="textAreaRight" fmla="*/ 3263040 w 450072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6163920" y="649116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151640" y="1295280"/>
            <a:ext cx="66027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</a:rPr>
              <a:t>Vielen Dank für Ih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</a:rPr>
              <a:t>Aufmerksamkei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-Mail: mandl@edupsy.uni-muenchen.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ttp://lsmandl.emp.paed.uni-muenchen.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907920"/>
            <a:ext cx="9067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inmann-Rothmeier, G., Mandl, H., Erlach, C. &amp; Neubauer, A. (in Druck).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Wissensmanagement. lernen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einheim: Bel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andl, H. &amp; Reinmann-Rothmeier, G. (Hrsg.).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Wissensmanagement. Informationszuwachs-Wissensschwund? Die strategische Bedeutung des Wissensmanagement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München: Oldenbou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inmann-Rothmeier, G. &amp; Mandl, H. (2000).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Individuelles Wissensmanagemen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Bern: Hu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inmann-Rothmeier, G. &amp; Mandl, H. (Hrsg.). (2001).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Virtuelle Seminare in Hochschule und Weiterbildung.Drei Beispiele aus der Praxi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Bern: Hu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4520" y="144360"/>
            <a:ext cx="17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Literat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flipV="1">
            <a:off x="1822320" y="2069640"/>
            <a:ext cx="4876920" cy="221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5360" y="47520"/>
            <a:ext cx="44532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Daten- Information – Wisse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50640" y="2886120"/>
            <a:ext cx="2040840" cy="5155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22640" y="1819440"/>
            <a:ext cx="1267920" cy="5155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480" y="3979800"/>
            <a:ext cx="1089720" cy="5155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7320" y="2819520"/>
            <a:ext cx="2466000" cy="6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innvoll kombini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olge von 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47600" y="1727280"/>
            <a:ext cx="2510280" cy="6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ten in einem Prob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lemzusammen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20320" y="838080"/>
            <a:ext cx="3194280" cy="6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nformation in Verbi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t persönlicher Erfah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3680" y="4794120"/>
            <a:ext cx="23151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sind wirkungs- un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bedeutungsl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62360" y="3803760"/>
            <a:ext cx="2746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bewirkt etwas und di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der Zielerreichu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47840" y="2736720"/>
            <a:ext cx="29854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ist sinnstiftend und di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der Situationsbewältigu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80840" y="59878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90480" y="6256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9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56120" y="17640"/>
            <a:ext cx="4808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e Weitergabe von Informati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&amp; Entstehung neuen Wiss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4760" y="838080"/>
            <a:ext cx="91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87440" y="1765440"/>
            <a:ext cx="7621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41520" y="2197080"/>
          <a:ext cx="132084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1520" y="2197080"/>
                    <a:ext cx="13208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3014640" y="1866960"/>
            <a:ext cx="3771720" cy="1181160"/>
            <a:chOff x="3014640" y="1866960"/>
            <a:chExt cx="3771720" cy="118116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014640" y="1866960"/>
              <a:ext cx="377172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706560" y="2210040"/>
              <a:ext cx="2489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form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00800" y="914400"/>
            <a:ext cx="2742840" cy="2209320"/>
            <a:chOff x="6400800" y="914400"/>
            <a:chExt cx="2742840" cy="220932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6400800" y="914400"/>
              <a:ext cx="2742840" cy="22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876000" y="1234440"/>
              <a:ext cx="157968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009560" y="1600200"/>
            <a:ext cx="152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600" y="609480"/>
            <a:ext cx="2197080" cy="1866960"/>
            <a:chOff x="12600" y="609480"/>
            <a:chExt cx="2197080" cy="1866960"/>
          </a:xfrm>
        </p:grpSpPr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12600" y="609480"/>
              <a:ext cx="219708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H="1">
              <a:off x="531720" y="865080"/>
              <a:ext cx="126504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67640" y="1074600"/>
            <a:ext cx="13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257800" y="3124080"/>
          <a:ext cx="3124080" cy="307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3124080"/>
                    <a:ext cx="312408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6920" y="47520"/>
            <a:ext cx="5320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erschiedene Formen von 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914400"/>
            <a:ext cx="33526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ch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now-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914400"/>
            <a:ext cx="335304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andlungs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now-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362320"/>
            <a:ext cx="335268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xplizites 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rachlich artikulie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m Wissensträ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enn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2362320"/>
            <a:ext cx="327672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plizites 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direkt artikuli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fahrungsabhäng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4419720"/>
            <a:ext cx="335268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dividuelles 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der Org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sationsmitgli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419720"/>
            <a:ext cx="335268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rganisation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i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 der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143000"/>
            <a:ext cx="1905120" cy="457200"/>
          </a:xfrm>
          <a:prstGeom prst="leftRightArrow">
            <a:avLst>
              <a:gd name="adj1" fmla="val 50000"/>
              <a:gd name="adj2" fmla="val 8295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95480"/>
            <a:ext cx="1905120" cy="457200"/>
          </a:xfrm>
          <a:prstGeom prst="leftRightArrow">
            <a:avLst>
              <a:gd name="adj1" fmla="val 50000"/>
              <a:gd name="adj2" fmla="val 8295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876920"/>
            <a:ext cx="1905120" cy="457200"/>
          </a:xfrm>
          <a:prstGeom prst="leftRightArrow">
            <a:avLst>
              <a:gd name="adj1" fmla="val 50000"/>
              <a:gd name="adj2" fmla="val 8295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8400" y="6261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7040" y="6253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5960" y="0"/>
            <a:ext cx="3362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772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295280"/>
            <a:ext cx="7619760" cy="281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ässt sich nicht auf (neue) Instrumente und Verfah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duz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etet eine neue Sicht auf Management-, Arbeits-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ganisationsproz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124080" y="1300320"/>
            <a:ext cx="3721320" cy="21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909800"/>
            <a:ext cx="3720960" cy="21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2824200"/>
            <a:ext cx="3721320" cy="21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17960" y="1849320"/>
            <a:ext cx="0" cy="16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20840" y="3503520"/>
            <a:ext cx="31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78160" y="4113360"/>
            <a:ext cx="25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2747880"/>
            <a:ext cx="63720" cy="1282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46760" y="388620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824200"/>
            <a:ext cx="1816200" cy="6732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d2d2d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805120"/>
            <a:ext cx="1716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Wissens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295280"/>
            <a:ext cx="1158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Techn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280" y="1905120"/>
            <a:ext cx="1749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4640400"/>
            <a:ext cx="1110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Men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843120"/>
            <a:ext cx="7683480" cy="494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6800" y="5402160"/>
            <a:ext cx="1621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Gesellscha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320" y="0"/>
            <a:ext cx="6324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Komponenten des Wissensmana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120" y="53820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23640" y="606420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mann-Rothmeier &amp; Man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22:31Z</dcterms:created>
  <dc:creator>Katrin Winkler</dc:creator>
  <dc:description/>
  <dc:language>en-US</dc:language>
  <cp:lastModifiedBy>LMU</cp:lastModifiedBy>
  <cp:lastPrinted>1904-01-27T00:33:05Z</cp:lastPrinted>
  <dcterms:modified xsi:type="dcterms:W3CDTF">1904-01-28T23:39:49Z</dcterms:modified>
  <cp:revision>49</cp:revision>
  <dc:subject/>
  <dc:title>PowerPoint-Präsentation</dc:title>
</cp:coreProperties>
</file>